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0a9b1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DA5C-2B50-4757-A38A-31398DD582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8D1D-FC3E-40FC-A9BE-F68BFFDDE34D}" type="slidenum">
              <a:rPr b="0" lang="fr-FR" sz="1200" spc="-1" strike="noStrike">
                <a:solidFill>
                  <a:srgbClr val="30a9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4367-2E98-4851-909D-5478C7C844A5}" type="slidenum">
              <a:rPr b="0" lang="fr-FR" sz="1200" spc="-1" strike="noStrike">
                <a:solidFill>
                  <a:srgbClr val="30a9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2819-3A6D-4842-AF8E-F89AFE022F13}" type="slidenum">
              <a:rPr b="0" lang="fr-FR" sz="1200" spc="-1" strike="noStrike">
                <a:solidFill>
                  <a:srgbClr val="30a9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E87A-B3CE-4B01-856E-DAB8F1DE11CD}" type="slidenum">
              <a:rPr b="0" lang="fr-FR" sz="1200" spc="-1" strike="noStrike">
                <a:solidFill>
                  <a:srgbClr val="30a9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9CC4-C203-4539-A074-8AC61B357068}" type="slidenum">
              <a:rPr b="0" lang="fr-FR" sz="1200" spc="-1" strike="noStrike">
                <a:solidFill>
                  <a:srgbClr val="30a9b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7816-1E59-4D32-9DBE-40B0A5FB38AE}" type="slidenum">
              <a:rPr b="0" lang="fr-FR" sz="1200" spc="-1" strike="noStrike">
                <a:solidFill>
                  <a:srgbClr val="30a9b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62C-DF30-40DD-BD6B-4CDA60A7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D1E-A3E0-4CAA-BB86-6BBBD7AD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3A5-C551-435C-AF24-B50404DA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55A-E1BF-4D43-95B0-94D9D37D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475-AE64-412E-A727-204C9519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057-911D-49F5-AA76-8598B0F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DC9-6FE9-4680-A273-55CA79A6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DFF-40C1-4E32-A2DD-BA714A14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119-79D8-48E0-B6C7-E79E133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363-BB58-473F-ACED-180D2008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F8E-475D-4532-89D6-F3EB7FA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559-3107-4FDC-8191-F388EB71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30a9b1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30a9b1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ec3c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ec3c8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ec3c8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31E4-4B2B-4CB2-8481-C98001571703}" type="slidenum">
              <a:rPr b="0" lang="fr-FR" sz="900" spc="-1" strike="noStrike">
                <a:solidFill>
                  <a:srgbClr val="8ec3c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urope.regionpaca.fr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30a9b2"/>
                </a:solidFill>
                <a:latin typeface="Arial"/>
              </a:rPr>
              <a:t>Programme Opérationnel Interrégional FEDER du massif des Alpes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30a9b2"/>
                </a:solidFill>
                <a:latin typeface="Arial"/>
              </a:rPr>
              <a:t>POIA 2014-2020</a:t>
            </a:r>
            <a:br>
              <a:rPr sz="2800"/>
            </a:br>
            <a:endParaRPr b="0" lang="en-US" sz="28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0a9b2"/>
                </a:solidFill>
                <a:latin typeface="Calibri"/>
              </a:rPr>
              <a:t>Comité de Suivi</a:t>
            </a:r>
            <a:br>
              <a:rPr sz="6600"/>
            </a:br>
            <a:r>
              <a:rPr b="0" lang="fr-FR" sz="2400" spc="-1" strike="noStrike">
                <a:solidFill>
                  <a:srgbClr val="30a9b2"/>
                </a:solidFill>
                <a:latin typeface="Calibri"/>
              </a:rPr>
              <a:t>19 Février 2015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45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Calibri Light"/>
              </a:rPr>
              <a:t>POIA            </a:t>
            </a:r>
            <a:r>
              <a:rPr b="1" i="1" lang="fr-FR" sz="2000" spc="-1" strike="noStrike">
                <a:solidFill>
                  <a:srgbClr val="002060"/>
                </a:solidFill>
                <a:latin typeface="Calibri Light"/>
              </a:rPr>
              <a:t>68 M€   dont UE: 34 M€</a:t>
            </a:r>
            <a:endParaRPr b="0" lang="en-US" sz="2000" spc="-1" strike="noStrike">
              <a:solidFill>
                <a:srgbClr val="30a9b1"/>
              </a:solidFill>
              <a:latin typeface="Calibri Ligh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1197000"/>
          <a:ext cx="8713800" cy="4998960"/>
        </p:xfrm>
        <a:graphic>
          <a:graphicData uri="http://schemas.openxmlformats.org/drawingml/2006/table">
            <a:tbl>
              <a:tblPr/>
              <a:tblGrid>
                <a:gridCol w="4968720"/>
                <a:gridCol w="1800360"/>
                <a:gridCol w="19447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ût Total  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dont FEDER)</a:t>
                      </a:r>
                      <a:endParaRPr b="0" lang="en-US" sz="12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70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e 1:  Protéger et valoriser les Ressources Alpines pour un développement durable des territoires de montagne: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</a:t>
                      </a:r>
                      <a:r>
                        <a:rPr b="1" lang="fr-F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atrimoine naturel et culturel ( PI6c)</a:t>
                      </a:r>
                      <a:endParaRPr b="0" lang="en-US" sz="16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Biodiversité continuités écologiques (PI6d)</a:t>
                      </a:r>
                      <a:endParaRPr b="0" lang="en-US" sz="16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6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3.62 M€  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 dont 21.81M€ FEDER )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4%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I6c= 18 M€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I6d = 3,81 M€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e 2:   Structurer et consolider la filière alpine de la transformation du bois pour la construction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 M€       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dont 6 M€ Feder)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%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OT3 / PI3d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e 3: Développer la résilience des territoires et des populations face aux risques naturels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 M€    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dont 5 M€ Feder)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OT5/ PI5b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xe 4: Assistance Technique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38 M€       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dont 1,19 M€)</a:t>
                      </a:r>
                      <a:endParaRPr b="0" lang="en-US" sz="18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OT5</a:t>
                      </a:r>
                      <a:endParaRPr b="0" lang="en-US" sz="11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72" name="Espace réservé du numéro de diapositive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ec3c8"/>
                </a:solidFill>
                <a:latin typeface="Calibri"/>
              </a:rPr>
              <a:t>Page </a:t>
            </a:r>
            <a:fld id="{3E1F6785-FA0F-46DD-B0F8-56D8CBD8F0C5}" type="slidenum">
              <a:rPr b="0" lang="fr-FR" sz="900" spc="-1" strike="noStrike">
                <a:solidFill>
                  <a:srgbClr val="8ec3c8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73" name="Image 7" descr=""/>
          <p:cNvPicPr/>
          <p:nvPr/>
        </p:nvPicPr>
        <p:blipFill>
          <a:blip r:embed="rId1"/>
          <a:srcRect l="-9104" t="0" r="-9104" b="0"/>
          <a:stretch/>
        </p:blipFill>
        <p:spPr>
          <a:xfrm>
            <a:off x="34920" y="0"/>
            <a:ext cx="2736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5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 Light"/>
              </a:rPr>
              <a:t>Le POIA 2014-2020</a:t>
            </a:r>
            <a:endParaRPr b="0" lang="en-US" sz="20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6680" y="1350720"/>
            <a:ext cx="4039920" cy="639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800" spc="-1" strike="noStrike">
                <a:solidFill>
                  <a:srgbClr val="7f7f7f"/>
                </a:solidFill>
                <a:latin typeface="Calibri"/>
              </a:rPr>
              <a:t>Architecture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6680" y="1999800"/>
            <a:ext cx="4039920" cy="43498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3 Axes Prioritaire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4 « Objectifs spécifiques »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alorisation patrimoine naturel et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ulturel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iodiversité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lière alpine boi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estion des risques naturel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4 « Priorités d’Investissement »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ypes d’actions / Principes d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lection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Plan de Financement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aux maximum UE = 50% du Coût Total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640" y="1346040"/>
            <a:ext cx="4041720" cy="640080"/>
          </a:xfrm>
          <a:prstGeom prst="rect">
            <a:avLst/>
          </a:prstGeom>
          <a:noFill/>
          <a:ln w="9360">
            <a:solidFill>
              <a:srgbClr val="a5e3e7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800" spc="-1" strike="noStrike">
                <a:solidFill>
                  <a:srgbClr val="7f7f7f"/>
                </a:solidFill>
                <a:latin typeface="Calibri"/>
              </a:rPr>
              <a:t>  </a:t>
            </a:r>
            <a:r>
              <a:rPr b="1" i="1" lang="fr-FR" sz="1800" spc="-1" strike="noStrike">
                <a:solidFill>
                  <a:srgbClr val="7f7f7f"/>
                </a:solidFill>
                <a:latin typeface="Calibri"/>
              </a:rPr>
              <a:t>Performance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9000" y="1999800"/>
            <a:ext cx="4032360" cy="4319640"/>
          </a:xfrm>
          <a:prstGeom prst="rect">
            <a:avLst/>
          </a:prstGeom>
          <a:noFill/>
          <a:ln w="9360">
            <a:solidFill>
              <a:srgbClr val="a5e3e7"/>
            </a:solidFill>
            <a:miter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9aa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59aaf2"/>
                </a:solidFill>
                <a:latin typeface="Calibri"/>
              </a:rPr>
              <a:t>Indicateurs de RESULTAT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100" spc="-1" strike="noStrike">
                <a:solidFill>
                  <a:srgbClr val="78d4db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esure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le changement attendu: 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Nb de nuitées touristiques estivales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Taux d’espèces naturelles d’intérêt communautaire menacées sur les Alpes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Nb d’entreprises certifiées bois des alpes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Part de population concernée par une démarche de gestion des risques naturels</a:t>
            </a: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9aa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59aaf2"/>
                </a:solidFill>
                <a:latin typeface="Calibri"/>
              </a:rPr>
              <a:t>Indicateurs de REALISATION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fr-FR" sz="11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Nombre de plan d’actions soutenus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59aa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400" spc="-1" strike="noStrike">
                <a:solidFill>
                  <a:srgbClr val="59aaf2"/>
                </a:solidFill>
                <a:latin typeface="Calibri"/>
              </a:rPr>
              <a:t>Cadre de PERFORMANCE</a:t>
            </a:r>
            <a:r>
              <a:rPr b="0" lang="fr-FR" sz="11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30a9b1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Financiers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(certification)  et de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alisation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 - ECHEANCE 2018</a:t>
            </a:r>
            <a:endParaRPr b="0" lang="en-US" sz="1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fr-FR" sz="1200" spc="-1" strike="noStrike">
                <a:solidFill>
                  <a:srgbClr val="30a9b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79" name="Espace réservé du numéro de diapositive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3C3B-1CF0-4322-A409-CBE98A9C2EA6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80" name="Connecteur droit avec flèche 16"/>
          <p:cNvCxnSpPr/>
          <p:nvPr/>
        </p:nvCxnSpPr>
        <p:spPr>
          <a:xfrm flipV="1">
            <a:off x="3607920" y="2877840"/>
            <a:ext cx="1081800" cy="1945440"/>
          </a:xfrm>
          <a:prstGeom prst="straightConnector1">
            <a:avLst/>
          </a:prstGeom>
          <a:ln w="64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81" name="Connecteur droit avec flèche 18"/>
          <p:cNvCxnSpPr/>
          <p:nvPr/>
        </p:nvCxnSpPr>
        <p:spPr>
          <a:xfrm flipV="1">
            <a:off x="3607920" y="4652640"/>
            <a:ext cx="1072440" cy="208800"/>
          </a:xfrm>
          <a:prstGeom prst="straightConnector1">
            <a:avLst/>
          </a:prstGeom>
          <a:ln w="648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82" name="Connecteur droit avec flèche 20"/>
          <p:cNvCxnSpPr/>
          <p:nvPr/>
        </p:nvCxnSpPr>
        <p:spPr>
          <a:xfrm>
            <a:off x="3607920" y="4870080"/>
            <a:ext cx="1081800" cy="359640"/>
          </a:xfrm>
          <a:prstGeom prst="straightConnector1">
            <a:avLst/>
          </a:prstGeom>
          <a:ln w="6480">
            <a:solidFill>
              <a:srgbClr val="0f6f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28560" y="980640"/>
            <a:ext cx="78868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4000" spc="-1" strike="noStrike">
                <a:solidFill>
                  <a:srgbClr val="30a9b1"/>
                </a:solidFill>
                <a:latin typeface="Calibri"/>
              </a:rPr>
              <a:t>Méthodologie de sélection des opérations financées par le POIA</a:t>
            </a:r>
            <a:endParaRPr b="0" lang="en-US" sz="4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620640"/>
            <a:ext cx="7886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30a9b2"/>
                </a:solidFill>
                <a:latin typeface="Calibri"/>
              </a:rPr>
              <a:t>POIA 2014-2020</a:t>
            </a:r>
            <a:br>
              <a:rPr sz="2400"/>
            </a:br>
            <a:r>
              <a:rPr b="1" lang="fr-FR" sz="2400" spc="-1" strike="noStrike">
                <a:solidFill>
                  <a:srgbClr val="30a9b2"/>
                </a:solidFill>
                <a:latin typeface="Calibri"/>
              </a:rPr>
              <a:t> Provence Alpes Côte D’Azur</a:t>
            </a:r>
            <a:br>
              <a:rPr sz="2400"/>
            </a:br>
            <a:r>
              <a:rPr b="1" lang="fr-FR" sz="2400" spc="-1" strike="noStrike">
                <a:solidFill>
                  <a:srgbClr val="30a9b2"/>
                </a:solidFill>
                <a:latin typeface="Calibri"/>
              </a:rPr>
              <a:t>Rhône-Alpes </a:t>
            </a:r>
            <a:endParaRPr b="0" lang="en-US" sz="24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2133360"/>
            <a:ext cx="7886880" cy="3538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procédures de sélection des opérations, de deux types 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pels à propositions 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ppels à projets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s deux procédures visent à  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specter le principe de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transparence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d’égalité de traitement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es porteurs de projet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Garantir l’éligibilité des projet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électionner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es projets les mieux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à même de répondre aux objectifs du POIA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66840" y="1052280"/>
            <a:ext cx="4039920" cy="63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30a9b2"/>
                </a:solidFill>
                <a:latin typeface="Calibri"/>
              </a:rPr>
              <a:t>Appels à Proposition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43080" y="1844640"/>
            <a:ext cx="4039920" cy="3951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Appel annuel, ouvert en continu, avec une sélection séquencée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budget dédié à l’appel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 calendrier de sélection en Comité interrégional de Programmation (CRP) 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critères d’éligibilité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es critères de sélection approuvés par le Comité de suivi du 19 II 2014</a:t>
            </a: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63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30a9b2"/>
                </a:solidFill>
                <a:latin typeface="Calibri"/>
              </a:rPr>
              <a:t>Appels à projet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3280" y="1844640"/>
            <a:ext cx="4042080" cy="3951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Cette procédure est mise en œuvre lorsqu’il est nécessaire de cibler à un moment donné la programmation sur une partie seulement de « Priorité d’Investissement ». Il peut être conjoint, ou non.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Il définira notamment :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lvl="2" marL="74304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le budget  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lvl="2" marL="74304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les dates de début et de fin de dépôt des dossiers,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lvl="2" marL="74304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la date prévisionnelle d’examen des dossiers en CRP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lvl="2" marL="74304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les critères d’éligibilité et de sélection applicables</a:t>
            </a: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49C1-19EE-45CA-9353-2EE6F8556448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300"/>
            </a:br>
            <a:r>
              <a:rPr b="1" lang="fr-FR" sz="3300" spc="-1" strike="noStrike" u="sng">
                <a:solidFill>
                  <a:srgbClr val="30a9b1"/>
                </a:solidFill>
                <a:uFillTx/>
                <a:latin typeface="Calibri Light"/>
              </a:rPr>
              <a:t>Publication et information</a:t>
            </a:r>
            <a:br>
              <a:rPr sz="3300"/>
            </a:b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appels sont publiés par l’Autorité de Gestion sur le site WEB du programme et la plateforme partenariale, avec : 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coordonnées sur service auprès duquel retirer le dossier de demande d’aide et répondre aux éventuelles questions du candidat,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guide du porteur de projet,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grille d’évaluation des dossiers.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formation au CRP des appels à projets et à propositions, avant ou après publication.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1" lang="fr-FR" sz="3600" spc="-1" strike="noStrike" u="sng">
                <a:solidFill>
                  <a:srgbClr val="30a9b1"/>
                </a:solidFill>
                <a:uFillTx/>
                <a:latin typeface="Calibri Light"/>
              </a:rPr>
              <a:t>Instruction </a:t>
            </a:r>
            <a:br>
              <a:rPr sz="3600"/>
            </a:br>
            <a:endParaRPr b="0" lang="en-US" sz="3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483920"/>
            <a:ext cx="7886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20606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Le service instructeur du POIA 2014-2020 est le </a:t>
            </a:r>
            <a:r>
              <a:rPr b="1" lang="fr-FR" sz="2000" spc="-1" strike="noStrike">
                <a:solidFill>
                  <a:srgbClr val="020606"/>
                </a:solidFill>
                <a:latin typeface="Calibri"/>
              </a:rPr>
              <a:t>Service Gestion des Fonds européens </a:t>
            </a: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(Direction des Affaires européennes)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374"/>
              </a:spcBef>
              <a:buClr>
                <a:srgbClr val="020606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Après avoir vérifié l’éligibilité du candidat et de l’opération, il procède à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374"/>
              </a:spcBef>
              <a:buClr>
                <a:srgbClr val="02060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l’analyse du budget (détermination du coût total éligible et du plan de financement, traitement des recettes…)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374"/>
              </a:spcBef>
              <a:buClr>
                <a:srgbClr val="02060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la vérification du respect des politiques sectorielles (commande publique/ordonnance de 2005, aides d’état, absence de double financement …),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374"/>
              </a:spcBef>
              <a:buClr>
                <a:srgbClr val="02060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l’évaluation du projet au regard des critères de sélection validés par le Comité de suivi 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374"/>
              </a:spcBef>
              <a:buClr>
                <a:srgbClr val="02060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Le SGFE sollicite l’avis des directions sectorielles compétentes des deux Régions sur la qualité du projet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374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1" lang="fr-FR" sz="3600" spc="-1" strike="noStrike" u="sng">
                <a:solidFill>
                  <a:srgbClr val="30a9b1"/>
                </a:solidFill>
                <a:uFillTx/>
                <a:latin typeface="Calibri Light"/>
              </a:rPr>
              <a:t>Evaluation et classement des projets </a:t>
            </a:r>
            <a:r>
              <a:rPr b="0" lang="fr-FR" sz="3600" spc="-1" strike="noStrike" u="sng">
                <a:solidFill>
                  <a:srgbClr val="30a9b1"/>
                </a:solidFill>
                <a:uFillTx/>
                <a:latin typeface="Calibri Light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20606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Le service instructeur évalue les projets sur la base d’une grille d’évaluation reprenant les critères de sélection applicables. Il peut solliciter les avis techniques d’autres services.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20606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Une note est attribuée à chaque projet, correspondant à la somme des notes attribuées à chaque critère de sélection. Si cette note est supérieure ou égale à une note minimale =&gt; avis favorable. Les dossiers ayant reçus un avis favorable sont classés en fonction de leur note.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20606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20606"/>
                </a:solidFill>
                <a:latin typeface="Calibri"/>
              </a:rPr>
              <a:t>Le résultat de l’instruction est présenté, pour information, à un Comité technique réunissant les services de l’Autorité de gestion, la Région Rhône-Alpes et les co-financeurs.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2060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300"/>
            </a:br>
            <a:r>
              <a:rPr b="1" lang="fr-FR" sz="3600" spc="-1" strike="noStrike" u="sng">
                <a:solidFill>
                  <a:srgbClr val="30a9b1"/>
                </a:solidFill>
                <a:uFillTx/>
                <a:latin typeface="Calibri Light"/>
              </a:rPr>
              <a:t>Passage en Comité Interrégional de programmation du POIA</a:t>
            </a:r>
            <a:endParaRPr b="0" lang="en-US" sz="3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010303"/>
                </a:solidFill>
                <a:latin typeface="Calibri"/>
              </a:rPr>
              <a:t>A l’issue de l’instruction, le service instructeur présente en Comité Régional de Programmation, pour avis :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10303"/>
                </a:solidFill>
                <a:latin typeface="Calibri"/>
              </a:rPr>
              <a:t>les dossiers éligibles, proposés à la programmation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10303"/>
                </a:solidFill>
                <a:latin typeface="Calibri"/>
              </a:rPr>
              <a:t>les dossiers éligibles, non proposés à la programmation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10303"/>
                </a:solidFill>
                <a:latin typeface="Calibri"/>
              </a:rPr>
              <a:t>les dossiers inéligible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10303"/>
                </a:solidFill>
                <a:latin typeface="Calibri"/>
              </a:rPr>
              <a:t>les dossiers non recevables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010303"/>
                </a:solidFill>
                <a:latin typeface="Calibri"/>
              </a:rPr>
              <a:t>Les dossiers proposés à la programmation sont les dossiers 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10303"/>
                </a:solidFill>
                <a:latin typeface="Calibri"/>
              </a:rPr>
              <a:t>éligibles ; 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10303"/>
                </a:solidFill>
                <a:latin typeface="Calibri"/>
              </a:rPr>
              <a:t>ayant reçu un avis favorable du service instructeur, et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10303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10303"/>
                </a:solidFill>
                <a:latin typeface="Calibri"/>
              </a:rPr>
              <a:t>entrant dans l’enveloppe des crédits disponibles.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1030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3600" spc="-1" strike="noStrike" u="sng">
                <a:solidFill>
                  <a:srgbClr val="30a9b1"/>
                </a:solidFill>
                <a:uFillTx/>
                <a:latin typeface="Calibri Light"/>
              </a:rPr>
              <a:t>Décision</a:t>
            </a:r>
            <a:endParaRPr b="0" lang="en-US" sz="36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utorité de gestion prend les décisions d’attribution et de rejet des subventions européennes, au vu de l’avis du Comité Régional de Programmation.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s décisions font l’objet d’une notification au candidat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15640" y="1844280"/>
            <a:ext cx="6264360" cy="392436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30a9b1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Le Conseil Régional Provence Alpes Côte d’Azur -  Autorité de Gestion du POIA: 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Organisation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51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C74-3FC3-4449-8E0F-097A2433411E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Image 1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3276720" cy="475452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2"/>
          <p:cNvSpPr/>
          <p:nvPr/>
        </p:nvSpPr>
        <p:spPr>
          <a:xfrm>
            <a:off x="324000" y="98100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Un nouveau site internet dédié aux fonds européen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en Région Provence-Alpes-Côte d’Azur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49100"/>
                </a:solidFill>
                <a:uFillTx/>
                <a:latin typeface="Calibri"/>
                <a:ea typeface="Arial"/>
                <a:hlinkClick r:id="rId2"/>
              </a:rPr>
              <a:t>http://europe.regionpaca.fr</a:t>
            </a:r>
            <a:r>
              <a:rPr b="1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03" name="Connecteur droit avec flèche 8"/>
          <p:cNvCxnSpPr/>
          <p:nvPr/>
        </p:nvCxnSpPr>
        <p:spPr>
          <a:xfrm flipV="1">
            <a:off x="4724280" y="1412640"/>
            <a:ext cx="1936080" cy="112608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04" name="ZoneTexte 10"/>
          <p:cNvSpPr/>
          <p:nvPr/>
        </p:nvSpPr>
        <p:spPr>
          <a:xfrm>
            <a:off x="2803680" y="24289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Entrée programm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05" name="Connecteur droit avec flèche 15"/>
          <p:cNvCxnSpPr>
            <a:stCxn id="106" idx="3"/>
          </p:cNvCxnSpPr>
          <p:nvPr/>
        </p:nvCxnSpPr>
        <p:spPr>
          <a:xfrm flipV="1">
            <a:off x="5324400" y="2647800"/>
            <a:ext cx="1658160" cy="32292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06" name="ZoneTexte 18"/>
          <p:cNvSpPr/>
          <p:nvPr/>
        </p:nvSpPr>
        <p:spPr>
          <a:xfrm>
            <a:off x="2803680" y="2786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Entrée porteur de projet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07" name="ZoneTexte 26"/>
          <p:cNvSpPr/>
          <p:nvPr/>
        </p:nvSpPr>
        <p:spPr>
          <a:xfrm>
            <a:off x="2803680" y="32018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Entrée bénéficiaire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08" name="Connecteur droit avec flèche 29"/>
          <p:cNvCxnSpPr/>
          <p:nvPr/>
        </p:nvCxnSpPr>
        <p:spPr>
          <a:xfrm flipV="1">
            <a:off x="4787640" y="2923560"/>
            <a:ext cx="2880360" cy="47844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09" name="ZoneTexte 30"/>
          <p:cNvSpPr/>
          <p:nvPr/>
        </p:nvSpPr>
        <p:spPr>
          <a:xfrm>
            <a:off x="2843280" y="38926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Appels en cours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10" name="Connecteur droit avec flèche 32"/>
          <p:cNvCxnSpPr/>
          <p:nvPr/>
        </p:nvCxnSpPr>
        <p:spPr>
          <a:xfrm>
            <a:off x="4571640" y="4076280"/>
            <a:ext cx="3025080" cy="108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11" name="ZoneTexte 34"/>
          <p:cNvSpPr/>
          <p:nvPr/>
        </p:nvSpPr>
        <p:spPr>
          <a:xfrm>
            <a:off x="2843280" y="43909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Espace partenair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12" name="Connecteur droit avec flèche 36"/>
          <p:cNvCxnSpPr/>
          <p:nvPr/>
        </p:nvCxnSpPr>
        <p:spPr>
          <a:xfrm>
            <a:off x="4724280" y="4583160"/>
            <a:ext cx="1664640" cy="17820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  <p:sp>
        <p:nvSpPr>
          <p:cNvPr id="113" name="ZoneTexte 38"/>
          <p:cNvSpPr/>
          <p:nvPr/>
        </p:nvSpPr>
        <p:spPr>
          <a:xfrm>
            <a:off x="2916360" y="4941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0a9b2"/>
                </a:solidFill>
                <a:latin typeface="Calibri"/>
                <a:ea typeface="Arial"/>
              </a:rPr>
              <a:t>Agenda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cxnSp>
        <p:nvCxnSpPr>
          <p:cNvPr id="114" name="Connecteur droit avec flèche 40"/>
          <p:cNvCxnSpPr/>
          <p:nvPr/>
        </p:nvCxnSpPr>
        <p:spPr>
          <a:xfrm flipV="1">
            <a:off x="3956040" y="4941360"/>
            <a:ext cx="4145760" cy="185040"/>
          </a:xfrm>
          <a:prstGeom prst="straightConnector1">
            <a:avLst/>
          </a:prstGeom>
          <a:ln w="6480">
            <a:solidFill>
              <a:srgbClr val="009dd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880920"/>
            <a:ext cx="7886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30a9b2"/>
                </a:solidFill>
                <a:latin typeface="Calibri"/>
              </a:rPr>
              <a:t>POIA 2014-2020</a:t>
            </a:r>
            <a:br>
              <a:rPr sz="2400"/>
            </a:br>
            <a:r>
              <a:rPr b="1" lang="fr-FR" sz="2400" spc="-1" strike="noStrike">
                <a:solidFill>
                  <a:srgbClr val="30a9b2"/>
                </a:solidFill>
                <a:latin typeface="Calibri"/>
              </a:rPr>
              <a:t> Provence Alpes Côte D’Azur</a:t>
            </a:r>
            <a:br>
              <a:rPr sz="2400"/>
            </a:br>
            <a:r>
              <a:rPr b="1" lang="fr-FR" sz="2400" spc="-1" strike="noStrike">
                <a:solidFill>
                  <a:srgbClr val="30a9b2"/>
                </a:solidFill>
                <a:latin typeface="Calibri"/>
              </a:rPr>
              <a:t>Rhône-Alpes </a:t>
            </a:r>
            <a:br>
              <a:rPr sz="2400"/>
            </a:br>
            <a:endParaRPr b="0" lang="en-US" sz="24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2133360"/>
            <a:ext cx="7886880" cy="35384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30a9b1"/>
                </a:solidFill>
                <a:latin typeface="Wingdings"/>
                <a:ea typeface="Wingdings"/>
              </a:rPr>
              <a:t></a:t>
            </a:r>
            <a:r>
              <a:rPr b="0" lang="fr-FR" sz="21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0" lang="fr-FR" sz="2100" spc="-1" strike="noStrike">
                <a:solidFill>
                  <a:srgbClr val="30a9b1"/>
                </a:solidFill>
                <a:latin typeface="Calibri"/>
              </a:rPr>
              <a:t>Validation des critères de sélection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30a9b1"/>
                </a:solidFill>
                <a:latin typeface="Wingdings"/>
                <a:ea typeface="Wingdings"/>
              </a:rPr>
              <a:t></a:t>
            </a:r>
            <a:r>
              <a:rPr b="0" lang="fr-FR" sz="21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0" lang="fr-FR" sz="2100" spc="-1" strike="noStrike">
                <a:solidFill>
                  <a:srgbClr val="30a9b1"/>
                </a:solidFill>
                <a:latin typeface="Calibri"/>
              </a:rPr>
              <a:t>Calendrier prévisionnel 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640" y="1196640"/>
            <a:ext cx="756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Calibri"/>
              </a:rPr>
              <a:t>Critères de sélection des projets: 4 catégories 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Calibri"/>
              </a:rPr>
              <a:t>1 – Contribution du projet à la stratégie du Programme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alibri"/>
              </a:rPr>
              <a:t>Ces critères sont définis directement à partir: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alibri"/>
              </a:rPr>
              <a:t>des choix stratégiques figurant dans le PO: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Contribution à la valorisation durable des ressources alpine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Contribution à l’atteinte des résultats attendus par objectif (indicateur de résultat)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alibri"/>
              </a:rPr>
              <a:t>des priorités transversales obligatoires: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Développement durable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Egalité des chances, lutte contre les discrimination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Egalité hommes femme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18" name="Image 3" descr=""/>
          <p:cNvPicPr/>
          <p:nvPr/>
        </p:nvPicPr>
        <p:blipFill>
          <a:blip r:embed="rId1"/>
          <a:srcRect l="-6765" t="0" r="-6765" b="0"/>
          <a:stretch/>
        </p:blipFill>
        <p:spPr>
          <a:xfrm>
            <a:off x="34920" y="0"/>
            <a:ext cx="36734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71640" y="1484280"/>
            <a:ext cx="72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Calibri"/>
              </a:rPr>
              <a:t>Les 4 Catégories de critères de sélection des projet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003399"/>
                </a:solidFill>
                <a:latin typeface="Calibri"/>
              </a:rPr>
              <a:t>2 – Qualité technique du projet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Ces critères sont déclinés à partir des principes de sélection figurant dans le programme pour chaque priorité, en fonction des spécificités des politiques publiques concernées (par exemple: priorité aux projets innovants, aux projets reproductibles, aux projets localisés sur les espaces valéens, etc…)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20" name="Image 3" descr=""/>
          <p:cNvPicPr/>
          <p:nvPr/>
        </p:nvPicPr>
        <p:blipFill>
          <a:blip r:embed="rId1"/>
          <a:srcRect l="-5653" t="0" r="-5653" b="0"/>
          <a:stretch/>
        </p:blipFill>
        <p:spPr>
          <a:xfrm>
            <a:off x="34920" y="0"/>
            <a:ext cx="3600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14440" y="1484280"/>
            <a:ext cx="84549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Calibri"/>
              </a:rPr>
              <a:t>Les 4 Catégories de critères de sélection des projet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003399"/>
                </a:solidFill>
                <a:latin typeface="Calibri"/>
              </a:rPr>
              <a:t>3 – Contribution du projet à la performance financière du programme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Ces critères sont définis directement à partir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du cadre de performance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Contribution à l’atteinte des objectifs en matière de réalisations (indicateurs de réalisation)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Contribution à l’atteinte des objectifs en matière de consommation des fond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Du rapport coûts / résultats (sur la base de coûts de référence)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22" name="Image 3" descr=""/>
          <p:cNvPicPr/>
          <p:nvPr/>
        </p:nvPicPr>
        <p:blipFill>
          <a:blip r:embed="rId1"/>
          <a:srcRect l="-5992" t="0" r="-5992" b="0"/>
          <a:stretch/>
        </p:blipFill>
        <p:spPr>
          <a:xfrm>
            <a:off x="34920" y="0"/>
            <a:ext cx="3889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fr-FR" sz="1800" spc="-1" strike="noStrike">
                <a:solidFill>
                  <a:srgbClr val="003399"/>
                </a:solidFill>
                <a:latin typeface="Calibri"/>
              </a:rPr>
              <a:t>Les 4 Catégories de critères de sélection des projet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003399"/>
                </a:solidFill>
                <a:latin typeface="Calibri"/>
              </a:rPr>
              <a:t>4 – Les exigences administratives et financière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Ces critères sont directement issus des exigences règlementaires en matière de gestion des fonds européens et concernent: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la capacité financière du porteur de projet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l’existence ou la mise en place d’une comptabilité analytique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les moyens humains et les outils dédiés à la gestion par le porteur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alibri"/>
              </a:rPr>
              <a:t>Sur ces aspects: mise en place de formations pour les porteurs de projet réalisées directement par les équipes de la Région.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124" name="Image 3" descr=""/>
          <p:cNvPicPr/>
          <p:nvPr/>
        </p:nvPicPr>
        <p:blipFill>
          <a:blip r:embed="rId1"/>
          <a:srcRect l="-2888" t="0" r="-2888" b="0"/>
          <a:stretch/>
        </p:blipFill>
        <p:spPr>
          <a:xfrm>
            <a:off x="34920" y="0"/>
            <a:ext cx="3673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331640" y="1773000"/>
            <a:ext cx="6335640" cy="381636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6CFB-2563-404C-81D7-9AB04964F226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59000" y="1056960"/>
            <a:ext cx="6308640" cy="57132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30a9b2"/>
                </a:solidFill>
                <a:latin typeface="Calibri"/>
              </a:rPr>
              <a:t>Appels: Calendrier estimatif 2015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00" y="2421000"/>
          <a:ext cx="5040360" cy="1249200"/>
        </p:xfrm>
        <a:graphic>
          <a:graphicData uri="http://schemas.openxmlformats.org/drawingml/2006/table">
            <a:tbl>
              <a:tblPr/>
              <a:tblGrid>
                <a:gridCol w="1733760"/>
                <a:gridCol w="330660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pôt du dossier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cision Comité Régional de programmatio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Ingénierie Espace valléen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CRP Juillet</a:t>
                      </a:r>
                      <a:endParaRPr b="0" lang="en-US" sz="14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359000" y="2133720"/>
          <a:ext cx="6095880" cy="19144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pôt dossier complet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fr-FR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ité Regional de Programmation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Appel Ingénierie Espace Valléen: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Mi Avril 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Comité Régional programmation : 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Juillet 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Autres appels: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Fin Mai  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Oct 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Fin Juillet 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fr-FR" sz="1300" spc="-1" strike="noStrike">
                          <a:solidFill>
                            <a:srgbClr val="30a9b1"/>
                          </a:solidFill>
                          <a:latin typeface="Calibri"/>
                        </a:rPr>
                        <a:t>Décembre2015</a:t>
                      </a:r>
                      <a:endParaRPr b="0" lang="en-US" sz="1300" spc="-1" strike="noStrike">
                        <a:solidFill>
                          <a:srgbClr val="30a9b1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"/>
          <p:cNvGrpSpPr/>
          <p:nvPr/>
        </p:nvGrpSpPr>
        <p:grpSpPr>
          <a:xfrm>
            <a:off x="539640" y="1031760"/>
            <a:ext cx="8425080" cy="5781960"/>
            <a:chOff x="539640" y="1031760"/>
            <a:chExt cx="8425080" cy="5781960"/>
          </a:xfrm>
        </p:grpSpPr>
        <p:sp>
          <p:nvSpPr>
            <p:cNvPr id="53" name="AutoShape 3"/>
            <p:cNvSpPr/>
            <p:nvPr/>
          </p:nvSpPr>
          <p:spPr>
            <a:xfrm>
              <a:off x="539640" y="1031760"/>
              <a:ext cx="8418240" cy="57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0a9b1"/>
                </a:solidFill>
                <a:latin typeface="Calibri"/>
              </a:endParaRPr>
            </a:p>
          </p:txBody>
        </p:sp>
        <p:pic>
          <p:nvPicPr>
            <p:cNvPr id="54" name="Picture 5" descr=""/>
            <p:cNvPicPr/>
            <p:nvPr/>
          </p:nvPicPr>
          <p:blipFill>
            <a:blip r:embed="rId1"/>
            <a:stretch/>
          </p:blipFill>
          <p:spPr>
            <a:xfrm>
              <a:off x="539640" y="1031760"/>
              <a:ext cx="8425080" cy="578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3300" spc="-1" strike="noStrike">
                <a:solidFill>
                  <a:srgbClr val="30a9b1"/>
                </a:solidFill>
                <a:latin typeface="Calibri Light"/>
              </a:rPr>
              <a:t>LE POIA: Une gouvernance interrégionale</a:t>
            </a:r>
            <a:endParaRPr b="0" lang="en-US" sz="33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3410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100" spc="-1" strike="noStrike">
                <a:solidFill>
                  <a:srgbClr val="051213"/>
                </a:solidFill>
                <a:latin typeface="Calibri"/>
              </a:rPr>
              <a:t>Une Autorité de Gestion unique  - la Région Provence-Alpes-Côte d’Azur -  mais une gouvernance partagée :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51213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51213"/>
                </a:solidFill>
                <a:latin typeface="Calibri"/>
              </a:rPr>
              <a:t>La stratégie du POIA a été construite en lien avec la Région-Alpes et la stratégie de la CIMA ;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51213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51213"/>
                </a:solidFill>
                <a:latin typeface="Calibri"/>
              </a:rPr>
              <a:t>Le Comité de suivi et le Comité de programmation sont co-présidés par le Préfet coordonnateur (Préfet de la Région Provence-Alpes-Côte d’Azur) et la Région Rhône-Alpes ;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51213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51213"/>
                </a:solidFill>
                <a:latin typeface="Calibri"/>
              </a:rPr>
              <a:t>Leur composition est représentative du partenariat interrégional et inclut notamment les Conseils généraux des deux Régions, ainsi que le Comité de Massif ;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51213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51213"/>
                </a:solidFill>
                <a:latin typeface="Calibri"/>
              </a:rPr>
              <a:t>L’animation du Programme associera étroitement la Région Rhône-Alpes ;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51213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51213"/>
                </a:solidFill>
                <a:latin typeface="Calibri"/>
              </a:rPr>
              <a:t>Les dossiers seront instruits par l’Autorité de gestion, mais le service instructeur sollicitera l’avis des services compétents de la Région Rhône-Alpe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547280" y="1483920"/>
            <a:ext cx="6264360" cy="392436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30a9b1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Le règlement intérieur du POIA 2014-2020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Focus sur la procédure visant à éviter les conflit d’intérêts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58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F753-AD9E-479E-AF71-B0933300D891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47280" y="1483920"/>
            <a:ext cx="6264360" cy="3924360"/>
          </a:xfrm>
          <a:prstGeom prst="rect">
            <a:avLst/>
          </a:prstGeom>
          <a:noFill/>
          <a:ln w="9360">
            <a:solidFill>
              <a:srgbClr val="78d4db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100" spc="-1" strike="noStrike">
                <a:solidFill>
                  <a:srgbClr val="30a9b1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30a9b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Présentation du  Programme Opérationnel 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Interrégional Massif des Alpes 2014-2020 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0" name="Espace réservé du numéro de diapositive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3310-3B10-4A67-892A-C830DDA5EF11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137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800" spc="-1" strike="noStrike">
                <a:solidFill>
                  <a:srgbClr val="30a9b1"/>
                </a:solidFill>
                <a:latin typeface="Calibri"/>
              </a:rPr>
              <a:t>Une démarche d’élaboration partenariale et  concertée</a:t>
            </a:r>
            <a:endParaRPr b="0" lang="en-US" sz="2800" spc="-1" strike="noStrike">
              <a:solidFill>
                <a:srgbClr val="30a9b1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Partenariat régional: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30a9b1"/>
                </a:solidFill>
                <a:latin typeface="Calibri"/>
              </a:rPr>
              <a:t>Diagnostic Territorial Stratégique du massif: </a:t>
            </a:r>
            <a:r>
              <a:rPr b="1" lang="fr-FR" sz="1600" spc="-1" strike="noStrike">
                <a:solidFill>
                  <a:srgbClr val="30a9b1"/>
                </a:solidFill>
                <a:latin typeface="Calibri"/>
              </a:rPr>
              <a:t>Juin 2012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30a9b1"/>
                </a:solidFill>
                <a:latin typeface="Calibri"/>
              </a:rPr>
              <a:t>Validation méthode et calendrier de travail – Comité de Massif      </a:t>
            </a:r>
            <a:r>
              <a:rPr b="1" lang="fr-FR" sz="1600" spc="-1" strike="noStrike">
                <a:solidFill>
                  <a:srgbClr val="30a9b1"/>
                </a:solidFill>
                <a:latin typeface="Calibri"/>
              </a:rPr>
              <a:t>Juillet 2013 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30a9b1"/>
                </a:solidFill>
                <a:latin typeface="Calibri"/>
              </a:rPr>
              <a:t>Version de concertation (VO): orientations stratégiques      </a:t>
            </a:r>
            <a:r>
              <a:rPr b="1" lang="fr-FR" sz="1600" spc="-1" strike="noStrike">
                <a:solidFill>
                  <a:srgbClr val="30a9b1"/>
                </a:solidFill>
                <a:latin typeface="Calibri"/>
              </a:rPr>
              <a:t>Juillet 2013 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30a9b1"/>
                </a:solidFill>
                <a:latin typeface="Calibri"/>
              </a:rPr>
              <a:t>Séminaire Villa Méditerranée    </a:t>
            </a:r>
            <a:r>
              <a:rPr b="1" lang="fr-FR" sz="1600" spc="-1" strike="noStrike">
                <a:solidFill>
                  <a:srgbClr val="30a9b1"/>
                </a:solidFill>
                <a:latin typeface="Calibri"/>
              </a:rPr>
              <a:t>8 juillet 2013        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30a9b1"/>
                </a:solidFill>
                <a:latin typeface="Calibri"/>
              </a:rPr>
              <a:t>V1: Sept 2013 /   V2: Mars 2014 / VF: 12 déc 2014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 </a:t>
            </a:r>
            <a:r>
              <a:rPr b="0" i="1" lang="fr-FR" sz="2000" spc="-1" strike="noStrike">
                <a:solidFill>
                  <a:srgbClr val="30a9b1"/>
                </a:solidFill>
                <a:latin typeface="Calibri"/>
              </a:rPr>
              <a:t>72 contributions / 45 000 visites  (</a:t>
            </a:r>
            <a:r>
              <a:rPr b="0" i="1" lang="fr-FR" sz="1600" spc="-1" strike="noStrike">
                <a:solidFill>
                  <a:srgbClr val="30a9b1"/>
                </a:solidFill>
                <a:latin typeface="Calibri"/>
              </a:rPr>
              <a:t>Plateforme contributive oct 2014</a:t>
            </a:r>
            <a:r>
              <a:rPr b="0" i="1" lang="fr-FR" sz="2000" spc="-1" strike="noStrike">
                <a:solidFill>
                  <a:srgbClr val="30a9b1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20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30a9b1"/>
                </a:solidFill>
                <a:latin typeface="Calibri"/>
              </a:rPr>
              <a:t>Commission européenne:</a:t>
            </a:r>
            <a:r>
              <a:rPr b="0" lang="fr-FR" sz="2400" spc="-1" strike="noStrike">
                <a:solidFill>
                  <a:srgbClr val="30a9b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200" spc="-1" strike="noStrike">
                <a:solidFill>
                  <a:srgbClr val="30a9b1"/>
                </a:solidFill>
                <a:latin typeface="Calibri"/>
              </a:rPr>
              <a:t>DG REGIO</a:t>
            </a: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2000" spc="-1" strike="noStrike">
                <a:solidFill>
                  <a:srgbClr val="30a9b1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30a9b1"/>
                </a:solidFill>
                <a:latin typeface="Calibri"/>
              </a:rPr>
              <a:t>Bilatérales – Consultations Inter Services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 marL="1713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  <p:pic>
        <p:nvPicPr>
          <p:cNvPr id="62" name="Image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62640" cy="847800"/>
          </a:xfrm>
          <a:prstGeom prst="rect">
            <a:avLst/>
          </a:prstGeom>
          <a:ln w="0">
            <a:noFill/>
          </a:ln>
        </p:spPr>
      </p:pic>
      <p:pic>
        <p:nvPicPr>
          <p:cNvPr id="63" name="Image 2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533600" cy="857160"/>
          </a:xfrm>
          <a:prstGeom prst="rect">
            <a:avLst/>
          </a:prstGeom>
          <a:ln w="0">
            <a:noFill/>
          </a:ln>
        </p:spPr>
      </p:pic>
      <p:sp>
        <p:nvSpPr>
          <p:cNvPr id="64" name="Flèche courbée vers la droite 10"/>
          <p:cNvSpPr/>
          <p:nvPr/>
        </p:nvSpPr>
        <p:spPr>
          <a:xfrm>
            <a:off x="631800" y="2060640"/>
            <a:ext cx="844560" cy="3036960"/>
          </a:xfrm>
          <a:custGeom>
            <a:avLst/>
            <a:gdLst>
              <a:gd name="textAreaLeft" fmla="*/ 113040 w 844560"/>
              <a:gd name="textAreaRight" fmla="*/ 731520 w 844560"/>
              <a:gd name="textAreaTop" fmla="*/ 680040 h 3036960"/>
              <a:gd name="textAreaBottom" fmla="*/ 2251440 h 303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76" stAng="-5400000" swAng="-5400000"/>
                <a:lnTo>
                  <a:pt x="0" y="11175"/>
                </a:lnTo>
                <a:arcTo wR="21600" hR="9676" stAng="10800000" swAng="-3602414"/>
                <a:lnTo>
                  <a:pt x="16200" y="21293"/>
                </a:lnTo>
                <a:lnTo>
                  <a:pt x="21600" y="20101"/>
                </a:lnTo>
                <a:lnTo>
                  <a:pt x="16200" y="18294"/>
                </a:lnTo>
                <a:lnTo>
                  <a:pt x="16200" y="19044"/>
                </a:lnTo>
                <a:arcTo wR="21600" hR="9676" stAng="7197586" swAng="3482816"/>
                <a:lnTo>
                  <a:pt x="65" y="10425"/>
                </a:lnTo>
                <a:arcTo wR="21600" hR="9676" stAng="-10680402" swAng="5280402"/>
                <a:close/>
              </a:path>
              <a:path fill="darkenLess" w="21600" h="21600">
                <a:moveTo>
                  <a:pt x="21600" y="0"/>
                </a:moveTo>
                <a:arcTo wR="21600" hR="9676" stAng="-5400000" swAng="-5400000"/>
                <a:lnTo>
                  <a:pt x="0" y="9676"/>
                </a:lnTo>
                <a:arcTo wR="21600" hR="9676" stAng="10800000" swAng="-119598"/>
                <a:lnTo>
                  <a:pt x="65" y="10425"/>
                </a:lnTo>
                <a:arcTo wR="21600" hR="9676" stAng="-10680402" swAng="5280402"/>
                <a:close/>
              </a:path>
            </a:pathLst>
          </a:custGeom>
          <a:solidFill>
            <a:srgbClr val="0f6fc6"/>
          </a:solidFill>
          <a:ln w="9360">
            <a:solidFill>
              <a:srgbClr val="30a9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  <p:sp>
        <p:nvSpPr>
          <p:cNvPr id="65" name="Flèche courbée vers la droite 22"/>
          <p:cNvSpPr/>
          <p:nvPr/>
        </p:nvSpPr>
        <p:spPr>
          <a:xfrm rot="10449600">
            <a:off x="7691040" y="1994040"/>
            <a:ext cx="717480" cy="2930400"/>
          </a:xfrm>
          <a:custGeom>
            <a:avLst/>
            <a:gdLst>
              <a:gd name="textAreaLeft" fmla="*/ 96120 w 717480"/>
              <a:gd name="textAreaRight" fmla="*/ 621360 w 717480"/>
              <a:gd name="textAreaTop" fmla="*/ 665280 h 2930400"/>
              <a:gd name="textAreaBottom" fmla="*/ 2175480 h 29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10" stAng="-5400000" swAng="-5400000"/>
                <a:lnTo>
                  <a:pt x="0" y="11130"/>
                </a:lnTo>
                <a:arcTo wR="21600" hR="9810" stAng="10800000" swAng="-3622801"/>
                <a:lnTo>
                  <a:pt x="16200" y="21289"/>
                </a:lnTo>
                <a:lnTo>
                  <a:pt x="21600" y="20279"/>
                </a:lnTo>
                <a:lnTo>
                  <a:pt x="16200" y="18647"/>
                </a:lnTo>
                <a:lnTo>
                  <a:pt x="16200" y="19308"/>
                </a:lnTo>
                <a:arcTo wR="21600" hR="9810" stAng="7177199" swAng="3517554"/>
                <a:lnTo>
                  <a:pt x="49" y="10470"/>
                </a:lnTo>
                <a:arcTo wR="21600" hR="9810" stAng="-10694752" swAng="5294752"/>
                <a:close/>
              </a:path>
              <a:path fill="darkenLess" w="21600" h="21600">
                <a:moveTo>
                  <a:pt x="21600" y="0"/>
                </a:moveTo>
                <a:arcTo wR="21600" hR="9810" stAng="-5400000" swAng="-5400000"/>
                <a:lnTo>
                  <a:pt x="0" y="9810"/>
                </a:lnTo>
                <a:arcTo wR="21600" hR="9810" stAng="10800000" swAng="-105248"/>
                <a:lnTo>
                  <a:pt x="49" y="10470"/>
                </a:lnTo>
                <a:arcTo wR="21600" hR="9810" stAng="-10694752" swAng="5294752"/>
                <a:close/>
              </a:path>
            </a:pathLst>
          </a:custGeom>
          <a:solidFill>
            <a:srgbClr val="0f6fc6"/>
          </a:solidFill>
          <a:ln w="9360">
            <a:solidFill>
              <a:srgbClr val="30a9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95280" y="899640"/>
            <a:ext cx="3889080" cy="925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30a9b2"/>
                </a:solidFill>
                <a:latin typeface="Calibri"/>
              </a:rPr>
              <a:t>Cadre Communautaire 2014-2020 </a:t>
            </a:r>
            <a:br>
              <a:rPr sz="1900"/>
            </a:br>
            <a:r>
              <a:rPr b="1" lang="fr-FR" sz="1900" spc="-1" strike="noStrike">
                <a:solidFill>
                  <a:srgbClr val="30a9b2"/>
                </a:solidFill>
                <a:latin typeface="Calibri"/>
              </a:rPr>
              <a:t>Les principes</a:t>
            </a:r>
            <a:br>
              <a:rPr sz="1900"/>
            </a:br>
            <a:endParaRPr b="0" lang="en-US" sz="19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95280" y="1825200"/>
            <a:ext cx="3889080" cy="39798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ratégie Inter régionale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cus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ésultat</a:t>
            </a:r>
            <a:endParaRPr b="0" lang="en-US" sz="2000" spc="-1" strike="noStrike">
              <a:solidFill>
                <a:srgbClr val="30a9b1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dicateurs: « Mesure du changement attendu »</a:t>
            </a: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adre de performance: </a:t>
            </a:r>
            <a:endParaRPr b="0" lang="en-US" sz="1200" spc="-1" strike="noStrike">
              <a:solidFill>
                <a:srgbClr val="30a9b1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Indicateurs valeurs obj 2018 / 2022 (-6% de l’enveloppe): réalisation et financier</a:t>
            </a:r>
            <a:endParaRPr b="0" lang="en-US" sz="1000" spc="-1" strike="noStrike">
              <a:solidFill>
                <a:srgbClr val="30a9b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6265800" cy="287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1" lang="fr-FR" sz="1900" spc="-1" strike="noStrike">
                <a:solidFill>
                  <a:srgbClr val="30a9b2"/>
                </a:solidFill>
                <a:latin typeface="Calibri"/>
              </a:rPr>
              <a:t>POIA 2014-2020:  La stratégie  interégionale</a:t>
            </a:r>
            <a:br>
              <a:rPr sz="1900"/>
            </a:br>
            <a:endParaRPr b="0" lang="en-US" sz="1900" spc="-1" strike="noStrike">
              <a:solidFill>
                <a:srgbClr val="30a9b1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3320" y="1197000"/>
            <a:ext cx="9036000" cy="4743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otéger et valoriser les Ressources Alpines pour un développement durable des territoires de montagne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Accroître la découverte estivale du massif par la valorisation du patrimoine naturel et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culturel  ( PI6c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versification des activités touristiques : tourisme d’été et en intersaison 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onsolidation des espaces de moyenne montagne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Protéger la biodiversité et les continuités écologiques alpines ( PI6d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intien des espèces / Protection des espaces et des continuités écologiques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2- Structurer et consolider la filière alpine de la transformation du bois pour la construction  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Accroître l’offre certifiée du bois d’œuvre alpin transformé localement ( PI3d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3- Développer la résilience des territoires et des populations face aux risques naturels</a:t>
            </a:r>
            <a:endParaRPr b="0" lang="en-US" sz="18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Etendre et améliorer la gestion intégrée des risques naturels sur le massif (PI5b)</a:t>
            </a:r>
            <a:endParaRPr b="0" lang="en-US" sz="16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0a9b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14:05:35Z</dcterms:created>
  <dc:creator>DUBOUCHAUD Frederic</dc:creator>
  <dc:description/>
  <dc:language>en-US</dc:language>
  <cp:lastModifiedBy>PAQUIS Florence</cp:lastModifiedBy>
  <dcterms:modified xsi:type="dcterms:W3CDTF">2015-02-18T16:01:33Z</dcterms:modified>
  <cp:revision>90</cp:revision>
  <dc:subject/>
  <dc:title>Présentation PowerPoint</dc:title>
</cp:coreProperties>
</file>