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8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6760" y="1240920"/>
            <a:ext cx="446400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30a9b1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30a9b1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586E4-4058-43C4-90CF-FF9B48B339D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90AD3-76F0-4028-908D-980931787914}" type="slidenum">
              <a:rPr b="0" lang="fr-FR" sz="1200" spc="-1" strike="noStrike">
                <a:solidFill>
                  <a:srgbClr val="30a9b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4F8C4-28B8-45BF-96F0-F08FB9E62544}" type="slidenum">
              <a:rPr b="0" lang="fr-FR" sz="1200" spc="-1" strike="noStrike">
                <a:solidFill>
                  <a:srgbClr val="30a9b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DE681-BB45-4173-9ACA-2EFE53DF8773}" type="slidenum">
              <a:rPr b="0" lang="fr-FR" sz="1200" spc="-1" strike="noStrike">
                <a:solidFill>
                  <a:srgbClr val="30a9b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64A08-F693-4FCF-A912-C722353CB678}" type="slidenum">
              <a:rPr b="0" lang="fr-FR" sz="1200" spc="-1" strike="noStrike">
                <a:solidFill>
                  <a:srgbClr val="30a9b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10B4-8FB2-4DE6-A68C-C6E47BB69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0a9b1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A5A4-D1DA-40D8-BC23-5704DAC2C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0a9b1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97D1-0FE2-4B14-8012-D934258C6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0a9b1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72DE-85E5-4CD0-BA10-8BE531C32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0a9b1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E938-1882-4981-81B0-259E89A59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0a9b1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AB70-6EA0-475D-8C59-AE28F6F4A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0a9b1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A153-0EB1-4DD1-82C9-B377179CE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0a9b1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F3AB-8B8B-4B1F-9F87-6FECD5CFA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D01B-DCD2-4C7E-8378-60D649AFE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0a9b1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F3D2-7902-46E5-B98F-182B3C93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0a9b1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122F-33B6-4B2B-A3A8-2E9B9CD6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0a9b1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F223-E0D8-4505-A656-617E6ACC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30a9b1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30a9b1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30a9b1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30a9b1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30a9b1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30a9b1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30a9b1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30a9b1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30a9b1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8ec3c8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8ec3c8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8ec3c8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9C2C0-482E-4F43-98E8-EBF70735E5D8}" type="slidenum">
              <a:rPr b="0" lang="fr-FR" sz="900" spc="-1" strike="noStrike">
                <a:solidFill>
                  <a:srgbClr val="8ec3c8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Programmes-europeens-2014-2020.regionpaca.fr/" TargetMode="External"/><Relationship Id="rId2" Type="http://schemas.openxmlformats.org/officeDocument/2006/relationships/hyperlink" Target="http://europe.regionpaca.fr/" TargetMode="External"/><Relationship Id="rId3" Type="http://schemas.openxmlformats.org/officeDocument/2006/relationships/hyperlink" Target="mailto:monprojeteuropeen@regionpaca.fr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urope.regionpaca.fr/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mailto:poia@regionpaca.fr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mailto:feder@regionpaca.fr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fr-FR" sz="2800" spc="-1" strike="noStrike">
                <a:solidFill>
                  <a:srgbClr val="30a9b2"/>
                </a:solidFill>
                <a:latin typeface="Arial"/>
              </a:rPr>
              <a:t>Programme Opérationnel Interrégional FEDER du massif des Alpes</a:t>
            </a:r>
            <a:br>
              <a:rPr sz="2800"/>
            </a:br>
            <a:br>
              <a:rPr sz="2800"/>
            </a:br>
            <a:r>
              <a:rPr b="1" lang="fr-FR" sz="2800" spc="-1" strike="noStrike">
                <a:solidFill>
                  <a:srgbClr val="30a9b2"/>
                </a:solidFill>
                <a:latin typeface="Arial"/>
              </a:rPr>
              <a:t>POIA 2014-2020</a:t>
            </a:r>
            <a:br>
              <a:rPr sz="2800"/>
            </a:br>
            <a:endParaRPr b="0" lang="en-US" sz="2800" spc="-1" strike="noStrike">
              <a:solidFill>
                <a:srgbClr val="30a9b1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2800" spc="-1" strike="noStrike">
                <a:solidFill>
                  <a:srgbClr val="30a9b2"/>
                </a:solidFill>
                <a:latin typeface="Arial"/>
                <a:ea typeface="Arial"/>
              </a:rPr>
              <a:t>Séminaire de Lancement</a:t>
            </a:r>
            <a:br>
              <a:rPr sz="6600"/>
            </a:br>
            <a:r>
              <a:rPr b="0" lang="fr-FR" sz="2400" spc="-1" strike="noStrike">
                <a:solidFill>
                  <a:srgbClr val="30a9b2"/>
                </a:solidFill>
                <a:latin typeface="Calibri"/>
              </a:rPr>
              <a:t>19 Février 2015</a:t>
            </a:r>
            <a:endParaRPr b="0" lang="en-US" sz="2400" spc="-1" strike="noStrike">
              <a:solidFill>
                <a:srgbClr val="30a9b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30000" y="36504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3300" spc="-1" strike="noStrike">
                <a:solidFill>
                  <a:srgbClr val="000000"/>
                </a:solidFill>
                <a:latin typeface="Calibri Light"/>
              </a:rPr>
              <a:t>Espaces Valléens.  </a:t>
            </a:r>
            <a:r>
              <a:rPr b="1" lang="fr-FR" sz="2000" spc="-1" strike="noStrike">
                <a:solidFill>
                  <a:srgbClr val="000000"/>
                </a:solidFill>
                <a:latin typeface="Calibri Light"/>
              </a:rPr>
              <a:t>Procédure en 2 temps</a:t>
            </a:r>
            <a:endParaRPr b="0" lang="en-US" sz="2000" spc="-1" strike="noStrike">
              <a:solidFill>
                <a:srgbClr val="30a9b1"/>
              </a:solidFill>
              <a:latin typeface="Calibri Ligh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30000" y="2504880"/>
            <a:ext cx="3725640" cy="257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Obj:</a:t>
            </a: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Accompagner l’élaboration des stratégies et des plans d’actions, support de la sélection des « Espaces Valléens »</a:t>
            </a: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30360" y="1498680"/>
            <a:ext cx="8045280" cy="41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2. Appel à Projet POIA :    Ingénierie des espaces Valléens</a:t>
            </a: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29240" y="2504880"/>
            <a:ext cx="3759120" cy="27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Permet de candidater à une aide financière à l’accompagnement de l’élaboration :</a:t>
            </a: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’une stratégie </a:t>
            </a: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orte d’entrée de l’« Espace valléen »</a:t>
            </a: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t d’un plan d’actions.</a:t>
            </a: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84200" y="764640"/>
            <a:ext cx="829008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 Light"/>
              </a:rPr>
              <a:t>Appel à projet POIA « Ingenierie Espaces Valléens »: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30a9b1"/>
              </a:solidFill>
              <a:latin typeface="Calibri Ligh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04720" y="1487160"/>
            <a:ext cx="356256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Calibri"/>
              </a:rPr>
              <a:t>Modalités financières</a:t>
            </a: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2 M€ FEDER – Taux max Feder 40% du Coût Total.</a:t>
            </a: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Seuil Minimum 20 k€ Feder</a:t>
            </a: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Calibri"/>
              </a:rPr>
              <a:t>Eligibilité géographique</a:t>
            </a: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Stratégies portant sur les territoires du massif des Alpes.</a:t>
            </a: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Calibri"/>
              </a:rPr>
              <a:t>Calendrier: </a:t>
            </a: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Ouverture appel: 23 fev 2015</a:t>
            </a: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Date limite dépôt des demandes: 15 avril 2015</a:t>
            </a: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Décision: juillet 2015</a:t>
            </a: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089240" y="1487160"/>
            <a:ext cx="44244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Dépense éligibles</a:t>
            </a: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Liées directement au projet</a:t>
            </a: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Figurant dans le plan de financement</a:t>
            </a: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Frais personnel</a:t>
            </a: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Conseil Expertise.. ( détail dans l’appel)</a:t>
            </a: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Eligibilité temporelle</a:t>
            </a: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Date de commencement: 1 janv 2015</a:t>
            </a: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Date de fin: 31 dec 2015</a:t>
            </a: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Eléments techniques demandés dans le dossier de demande:</a:t>
            </a: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Un document cadre: perimètre géographique, axes de développement… de la future stratégie</a:t>
            </a: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Une méthodologie pour l’élaboration de la stratégie et du plan d’actions</a:t>
            </a: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95" name="Espace réservé du numéro de diapositive 6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AA343-63F6-4425-8D60-DB7EA3AD16E7}" type="slidenum">
              <a:rPr b="0" lang="fr-FR" sz="900" spc="-1" strike="noStrike">
                <a:solidFill>
                  <a:srgbClr val="8ec3c8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30a9b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00040" y="1469880"/>
            <a:ext cx="1882800" cy="4037040"/>
          </a:xfrm>
          <a:prstGeom prst="rect">
            <a:avLst/>
          </a:prstGeom>
          <a:noFill/>
          <a:ln w="9360">
            <a:solidFill>
              <a:srgbClr val="78d4db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Calibri"/>
              </a:rPr>
              <a:t>Critères relatifs à la performance financière du PO </a:t>
            </a:r>
            <a:endParaRPr b="0" lang="en-US" sz="15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- Contribution du projet au cadre de performance : potentiel de certification, indicateurs de réalisation du cadre de performance, </a:t>
            </a:r>
            <a:endParaRPr b="0" lang="en-US" sz="15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- Adéquation entre les coûts du projet et les résultats escomptés </a:t>
            </a:r>
            <a:endParaRPr b="0" lang="en-US" sz="15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autre indicateur de réalisation </a:t>
            </a:r>
            <a:endParaRPr b="0" lang="en-US" sz="15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808200"/>
            <a:ext cx="8153280" cy="66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1800" spc="-1" strike="noStrike">
                <a:solidFill>
                  <a:srgbClr val="0070c0"/>
                </a:solidFill>
                <a:latin typeface="Calibri Light"/>
              </a:rPr>
              <a:t>Axe 1 - Appel à Projet:  Ingénierie des Espaces Valléens:</a:t>
            </a:r>
            <a:br>
              <a:rPr sz="1800"/>
            </a:br>
            <a:r>
              <a:rPr b="1" lang="fr-FR" sz="1800" spc="-1" strike="noStrike">
                <a:solidFill>
                  <a:srgbClr val="0070c0"/>
                </a:solidFill>
                <a:latin typeface="Calibri Light"/>
              </a:rPr>
              <a:t> Critères de sélection </a:t>
            </a:r>
            <a:br>
              <a:rPr sz="1400"/>
            </a:br>
            <a:endParaRPr b="0" lang="en-US" sz="1800" spc="-1" strike="noStrike">
              <a:solidFill>
                <a:srgbClr val="30a9b1"/>
              </a:solidFill>
              <a:latin typeface="Calibri Ligh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484360" y="1469520"/>
            <a:ext cx="6168960" cy="4335480"/>
          </a:xfrm>
          <a:prstGeom prst="rect">
            <a:avLst/>
          </a:prstGeom>
          <a:noFill/>
          <a:ln w="9360">
            <a:solidFill>
              <a:srgbClr val="78d4db"/>
            </a:solidFill>
            <a:miter/>
          </a:ln>
        </p:spPr>
        <p:txBody>
          <a:bodyPr anchor="t">
            <a:normAutofit/>
          </a:bodyPr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Critères relatifs à la contribution du projet aux objectifs du PO </a:t>
            </a:r>
            <a:endParaRPr b="0" lang="en-US" sz="14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- Adéquation du contenu du document-cadre avec les objectifs spécifiques du POIA (Contribution à l’accroissement de la découverte estivale du massif par la valorisation du patrimoine naturel et culturel, Contribution à la protection de la biodiversité et les continuités écologiques alpines) </a:t>
            </a:r>
            <a:endParaRPr b="0" lang="en-US" sz="14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- Contribution à la progression du nombre de nuitées touristiques estivales </a:t>
            </a:r>
            <a:endParaRPr b="0" lang="en-US" sz="14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- Contribution à la diminution du taux d’espèces naturelles d’intérêt communautaire menacées sur les Alpes </a:t>
            </a:r>
            <a:endParaRPr b="0" lang="en-US" sz="14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- Valeur ajoutée inter régionale </a:t>
            </a:r>
            <a:endParaRPr b="0" lang="en-US" sz="14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Critères relatifs à la qualité du projet </a:t>
            </a:r>
            <a:endParaRPr b="0" lang="en-US" sz="14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- Clarté et pertinence de l’analyse des besoins et enjeux par rapport aux caractéristiques du territoire et aux problématiques spécifiques de Montagne </a:t>
            </a:r>
            <a:endParaRPr b="0" lang="en-US" sz="14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- Caractère innovant de la démarche proposée, </a:t>
            </a:r>
            <a:endParaRPr b="0" lang="en-US" sz="14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- Caractère participatif de la démarche </a:t>
            </a:r>
            <a:endParaRPr b="0" lang="en-US" sz="14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- Pertinence de la gouvernance au regard de la stratégie proposée </a:t>
            </a:r>
            <a:endParaRPr b="0" lang="en-US" sz="14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- Prise en compte de l’approche durable du développement touristique. </a:t>
            </a:r>
            <a:endParaRPr b="0" lang="en-US" sz="14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Critères relatifs aux exigences administratives et financières</a:t>
            </a:r>
            <a:endParaRPr b="0" lang="en-US" sz="14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99" name="Espace réservé du numéro de diapositive 6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4C554-015A-4920-8028-40620139BB79}" type="slidenum">
              <a:rPr b="0" lang="fr-F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0a9b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6840" y="1341360"/>
            <a:ext cx="4040280" cy="4037040"/>
          </a:xfrm>
          <a:prstGeom prst="rect">
            <a:avLst/>
          </a:prstGeom>
          <a:noFill/>
          <a:ln w="9360">
            <a:solidFill>
              <a:srgbClr val="78d4db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1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Critères relatifs à la contribution du projet aux objectifs du PO </a:t>
            </a: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- Contribution à l’accroissement de la fréquentation estivale </a:t>
            </a: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- Valeur ajoutée inter régionale </a:t>
            </a: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- Respect des priorités transversales (égalité hommes-femmes / développement durable / lutte contre les discriminations) </a:t>
            </a: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15328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1600" spc="-1" strike="noStrike">
                <a:solidFill>
                  <a:srgbClr val="002060"/>
                </a:solidFill>
                <a:latin typeface="Calibri Light"/>
              </a:rPr>
              <a:t>	</a:t>
            </a:r>
            <a:r>
              <a:rPr b="1" lang="fr-FR" sz="1600" spc="-1" strike="noStrike">
                <a:solidFill>
                  <a:srgbClr val="002060"/>
                </a:solidFill>
                <a:latin typeface="Calibri Light"/>
              </a:rPr>
              <a:t>	</a:t>
            </a:r>
            <a:r>
              <a:rPr b="1" lang="fr-FR" sz="1600" spc="-1" strike="noStrike">
                <a:solidFill>
                  <a:srgbClr val="083763"/>
                </a:solidFill>
                <a:latin typeface="Calibri Light"/>
              </a:rPr>
              <a:t>Appel à Proposition OS1:    Patrimoine naturel et culturel </a:t>
            </a:r>
            <a:br>
              <a:rPr sz="1400"/>
            </a:br>
            <a:endParaRPr b="0" lang="en-US" sz="1600" spc="-1" strike="noStrike">
              <a:solidFill>
                <a:srgbClr val="30a9b1"/>
              </a:solidFill>
              <a:latin typeface="Calibri Light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65520" y="1341360"/>
            <a:ext cx="4044960" cy="4037040"/>
          </a:xfrm>
          <a:prstGeom prst="rect">
            <a:avLst/>
          </a:prstGeom>
          <a:noFill/>
          <a:ln w="9360">
            <a:solidFill>
              <a:srgbClr val="78d4db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4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Critères relatifs à la qualité du projet </a:t>
            </a: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- Caractère innovant du projet (nouvelle démarche de coopération, nouveaux produits touristiques, etc…) </a:t>
            </a:r>
            <a:endParaRPr b="0" lang="en-US" sz="14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- Nombre d’espaces Valléens impactés directement ou indirectement </a:t>
            </a:r>
            <a:endParaRPr b="0" lang="en-US" sz="14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- Impact sur la découverte et l’accueil en montagne des publics jeunes et des populations à revenu modeste </a:t>
            </a:r>
            <a:endParaRPr b="0" lang="en-US" sz="14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- Intégration des exigences d’efficience énergétique et d’utilisation des matériaux biosourcés et des ressources locales </a:t>
            </a:r>
            <a:endParaRPr b="0" lang="en-US" sz="14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103" name="Espace réservé du numéro de diapositive 6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46B13-F769-4BFB-8209-16B84573DC77}" type="slidenum">
              <a:rPr b="0" lang="fr-F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0a9b1"/>
              </a:solidFill>
              <a:latin typeface="Calibri"/>
            </a:endParaRPr>
          </a:p>
        </p:txBody>
      </p:sp>
      <p:pic>
        <p:nvPicPr>
          <p:cNvPr id="104" name="Image 8" descr=""/>
          <p:cNvPicPr/>
          <p:nvPr/>
        </p:nvPicPr>
        <p:blipFill>
          <a:blip r:embed="rId1"/>
          <a:srcRect l="-9104" t="0" r="-9104" b="0"/>
          <a:stretch/>
        </p:blipFill>
        <p:spPr>
          <a:xfrm>
            <a:off x="34920" y="0"/>
            <a:ext cx="302436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6840" y="1341360"/>
            <a:ext cx="4040280" cy="4037040"/>
          </a:xfrm>
          <a:prstGeom prst="rect">
            <a:avLst/>
          </a:prstGeom>
          <a:noFill/>
          <a:ln w="9360">
            <a:solidFill>
              <a:srgbClr val="78d4db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1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1600" spc="-1" strike="noStrike">
                <a:solidFill>
                  <a:srgbClr val="0070c0"/>
                </a:solidFill>
                <a:latin typeface="Calibri"/>
              </a:rPr>
              <a:t>Biodiversité et continuités écologiques</a:t>
            </a: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 lvl="1"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Protéger la biodiversité et les continuités écologiques alpines ( PI6d)</a:t>
            </a: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Protection accrue de la biodiversité alpine: espèces et habitats emblématiques du massif</a:t>
            </a: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Calibri"/>
              </a:rPr>
              <a:t>7.6 M€  dont 3,8 M€ FEDER </a:t>
            </a: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alibri"/>
              </a:rPr>
              <a:t>Résultat visé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2023: </a:t>
            </a: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Diminution du taux d’espèces naturelles d’intérêt communautaire menacées sur les Alpes: de 53%  en 2012 à 50% en 2023</a:t>
            </a: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(Diminution de 4 espèces naturelles sur 70)</a:t>
            </a:r>
            <a:endParaRPr b="0" lang="en-US" sz="12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15328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Axe 1: </a:t>
            </a:r>
            <a:r>
              <a:rPr b="1" lang="fr-FR" sz="1600" spc="-1" strike="noStrike">
                <a:solidFill>
                  <a:srgbClr val="002060"/>
                </a:solidFill>
                <a:latin typeface="Calibri Light"/>
              </a:rPr>
              <a:t>Protéger et valoriser les Ressources Alpines pour un développement durable des territoires de montagne /                                                       ( OS2)</a:t>
            </a:r>
            <a:endParaRPr b="0" lang="en-US" sz="1600" spc="-1" strike="noStrike">
              <a:solidFill>
                <a:srgbClr val="30a9b1"/>
              </a:solidFill>
              <a:latin typeface="Calibri Light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466880" y="1339920"/>
            <a:ext cx="4281480" cy="4037040"/>
          </a:xfrm>
          <a:prstGeom prst="rect">
            <a:avLst/>
          </a:prstGeom>
          <a:noFill/>
          <a:ln w="9360">
            <a:solidFill>
              <a:srgbClr val="78d4db"/>
            </a:solidFill>
            <a:miter/>
          </a:ln>
        </p:spPr>
        <p:txBody>
          <a:bodyPr anchor="t">
            <a:normAutofit/>
          </a:bodyPr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Gestion patrimoniale et fonctionnelle des milieux et des espèces: production et gestion de la connaissance, investissements de restauration et de conservation des habitats</a:t>
            </a: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Soutien à l’ingénierie et animation pour l’élaboration et la mise en œuvre de stratégie territoriale sur la biodiversité</a:t>
            </a: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 algn="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alibri"/>
              </a:rPr>
              <a:t>Réalisations visées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 algn="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Nb de programmes d’observation, conservation, protection biodiversité  :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25</a:t>
            </a: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 algn="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Nb d’ouvrages de restauration de continuités : 4</a:t>
            </a: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 algn="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/ Nb de plan d’actions territoriaux de protection de la biodiversité: 27 </a:t>
            </a: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108" name="Espace réservé du numéro de diapositive 6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19FAD-3C4C-48E3-8EDE-479B3503EF05}" type="slidenum">
              <a:rPr b="0" lang="fr-F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457200" y="542124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  <a:ea typeface="Arial"/>
              </a:rPr>
              <a:t>Bénéficiaires cibles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Arial"/>
              </a:rPr>
              <a:t>Collectivités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Arial"/>
              </a:rPr>
              <a:t> et groupements, gestionnaires d’espaces naturels, parcs, associations..</a:t>
            </a:r>
            <a:endParaRPr b="0" lang="en-US" sz="1400" spc="-1" strike="noStrike">
              <a:solidFill>
                <a:srgbClr val="30a9b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6840" y="1341360"/>
            <a:ext cx="4040280" cy="4037040"/>
          </a:xfrm>
          <a:prstGeom prst="rect">
            <a:avLst/>
          </a:prstGeom>
          <a:noFill/>
          <a:ln w="9360">
            <a:solidFill>
              <a:srgbClr val="78d4db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Critères relatifs à la contribution du projet aux objectifs du PO </a:t>
            </a: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- Contribution à la diminution du nombre d’espèces et naturelles alpines et habitats menacés </a:t>
            </a: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- Valeur ajoutée inter régionale </a:t>
            </a: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- Respect des priorités transversales (égalité hommes-femmes / développement durable / lutte contre les discriminations) </a:t>
            </a: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15328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1600" spc="-1" strike="noStrike">
                <a:solidFill>
                  <a:srgbClr val="083763"/>
                </a:solidFill>
                <a:latin typeface="Calibri"/>
              </a:rPr>
              <a:t>Appel à Proposition OS2:    Biodiversité - continuités écologiques</a:t>
            </a:r>
            <a:br>
              <a:rPr sz="1400"/>
            </a:br>
            <a:endParaRPr b="0" lang="en-US" sz="1600" spc="-1" strike="noStrike">
              <a:solidFill>
                <a:srgbClr val="30a9b1"/>
              </a:solidFill>
              <a:latin typeface="Calibri Light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65520" y="1341360"/>
            <a:ext cx="4044960" cy="4037040"/>
          </a:xfrm>
          <a:prstGeom prst="rect">
            <a:avLst/>
          </a:prstGeom>
          <a:noFill/>
          <a:ln w="9360">
            <a:solidFill>
              <a:srgbClr val="78d4db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Critères relatifs à la qualité du projet </a:t>
            </a: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- Caractère innovant du projet </a:t>
            </a: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- Localisation sur un espace valléen </a:t>
            </a: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- Contribution à la protection/restauration des milieux humides </a:t>
            </a: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- Contribution à la régulation de la pression anthropique lors des périodes de fortes fréquentations touristiques </a:t>
            </a: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113" name="Espace réservé du numéro de diapositive 6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1BF2E-151A-4064-9F14-53E3AAF1BF8F}" type="slidenum">
              <a:rPr b="0" lang="fr-F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0a9b1"/>
              </a:solidFill>
              <a:latin typeface="Calibri"/>
            </a:endParaRPr>
          </a:p>
        </p:txBody>
      </p:sp>
      <p:pic>
        <p:nvPicPr>
          <p:cNvPr id="114" name="Image 8" descr=""/>
          <p:cNvPicPr/>
          <p:nvPr/>
        </p:nvPicPr>
        <p:blipFill>
          <a:blip r:embed="rId1"/>
          <a:srcRect l="-9104" t="0" r="-9104" b="0"/>
          <a:stretch/>
        </p:blipFill>
        <p:spPr>
          <a:xfrm>
            <a:off x="34920" y="0"/>
            <a:ext cx="302436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28560" y="90792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3300" spc="-1" strike="noStrike">
                <a:solidFill>
                  <a:srgbClr val="30a9b1"/>
                </a:solidFill>
                <a:latin typeface="Calibri Light"/>
              </a:rPr>
              <a:t>Témoignages</a:t>
            </a:r>
            <a:endParaRPr b="0" lang="en-US" sz="3300" spc="-1" strike="noStrike">
              <a:solidFill>
                <a:srgbClr val="30a9b1"/>
              </a:solidFill>
              <a:latin typeface="Calibri Light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28560" y="2707920"/>
            <a:ext cx="7886880" cy="34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ctr">
              <a:lnSpc>
                <a:spcPct val="90000"/>
              </a:lnSpc>
              <a:spcBef>
                <a:spcPts val="751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2000" spc="-1" strike="noStrike">
                <a:solidFill>
                  <a:srgbClr val="30a9b1"/>
                </a:solidFill>
                <a:latin typeface="Calibri"/>
              </a:rPr>
              <a:t>Espace valléen 2007-2013</a:t>
            </a: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2000" spc="-1" strike="noStrike">
                <a:solidFill>
                  <a:srgbClr val="30a9b1"/>
                </a:solidFill>
                <a:latin typeface="Calibri"/>
              </a:rPr>
              <a:t>Protection de la Biodiversité et des continuités écologiques: </a:t>
            </a: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 lvl="1" marL="514440" indent="-171360" algn="ctr">
              <a:lnSpc>
                <a:spcPct val="90000"/>
              </a:lnSpc>
              <a:spcBef>
                <a:spcPts val="374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2000" spc="-1" strike="noStrike">
                <a:solidFill>
                  <a:srgbClr val="30a9b1"/>
                </a:solidFill>
                <a:latin typeface="Calibri"/>
              </a:rPr>
              <a:t>Parc National des Ecrins</a:t>
            </a: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6840" y="1341360"/>
            <a:ext cx="4040280" cy="4037040"/>
          </a:xfrm>
          <a:prstGeom prst="rect">
            <a:avLst/>
          </a:prstGeom>
          <a:noFill/>
          <a:ln w="9360">
            <a:solidFill>
              <a:srgbClr val="78d4db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1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1600" spc="-1" strike="noStrike">
                <a:solidFill>
                  <a:srgbClr val="0070c0"/>
                </a:solidFill>
                <a:latin typeface="Calibri"/>
              </a:rPr>
              <a:t>Filière Bois des Alpes </a:t>
            </a: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Augmentation de l’activité de transformation locale du bois d’œuvre alpin certifiée «  Bois des Alpes » (OS3).</a:t>
            </a: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Calibri"/>
              </a:rPr>
              <a:t>12 M€  dont 6 M€ FEDER ( PI3d)</a:t>
            </a: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alibri"/>
              </a:rPr>
              <a:t>Résultat visé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Accroissement du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nombre d’entreprises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alpines de transformation de bois d’œuvre certifiées « bois des Alpes »: de 24 en 2014 à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85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en 2023</a:t>
            </a: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15328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Axe 2: </a:t>
            </a:r>
            <a:r>
              <a:rPr b="1" lang="fr-FR" sz="1600" spc="-1" strike="noStrike">
                <a:solidFill>
                  <a:srgbClr val="000000"/>
                </a:solidFill>
                <a:latin typeface="Calibri Light"/>
              </a:rPr>
              <a:t>Structurer et consolider la filière alpine de la transformation du bois pour la construction </a:t>
            </a:r>
            <a:endParaRPr b="0" lang="en-US" sz="1600" spc="-1" strike="noStrike">
              <a:solidFill>
                <a:srgbClr val="30a9b1"/>
              </a:solidFill>
              <a:latin typeface="Calibri Light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65520" y="1341360"/>
            <a:ext cx="4044960" cy="4037040"/>
          </a:xfrm>
          <a:prstGeom prst="rect">
            <a:avLst/>
          </a:prstGeom>
          <a:noFill/>
          <a:ln w="9360">
            <a:solidFill>
              <a:srgbClr val="78d4db"/>
            </a:solidFill>
            <a:miter/>
          </a:ln>
        </p:spPr>
        <p:txBody>
          <a:bodyPr anchor="t">
            <a:normAutofit/>
          </a:bodyPr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Modernisation et développement des entreprises de première et deuxième transformation: études et investissements matériels</a:t>
            </a: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Soutien à la structuration des acteurs de la transformation du bois d’œuvre local</a:t>
            </a: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 algn="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 algn="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fr-FR" sz="2100" spc="-1" strike="noStrike">
                <a:solidFill>
                  <a:srgbClr val="000000"/>
                </a:solidFill>
                <a:latin typeface="Calibri"/>
              </a:rPr>
              <a:t>Réalisations visées</a:t>
            </a: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 algn="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Nb d’entreprises soutenues: 110 </a:t>
            </a: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 algn="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alibri"/>
              </a:rPr>
              <a:t>Investissements privés accompagnés:15 M€</a:t>
            </a: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1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120" name="Espace réservé du numéro de diapositive 6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707EA-420C-414C-A946-F7D4D7E89C8B}" type="slidenum">
              <a:rPr b="0" lang="fr-F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121" name="Rectangle 13"/>
          <p:cNvSpPr/>
          <p:nvPr/>
        </p:nvSpPr>
        <p:spPr>
          <a:xfrm>
            <a:off x="457200" y="5421240"/>
            <a:ext cx="815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  <a:ea typeface="Arial"/>
              </a:rPr>
              <a:t>Bénéficiaires cibles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Arial"/>
              </a:rPr>
              <a:t>: TPE PME 1ere et 2</a:t>
            </a:r>
            <a:r>
              <a:rPr b="0" lang="fr-FR" sz="14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de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Arial"/>
              </a:rPr>
              <a:t> transformation du bois, groupements d’entreprises, consulaires, interprofessionnels, collectivités publiques</a:t>
            </a:r>
            <a:endParaRPr b="0" lang="en-US" sz="1400" spc="-1" strike="noStrike">
              <a:solidFill>
                <a:srgbClr val="30a9b1"/>
              </a:solidFill>
              <a:latin typeface="Calibri"/>
            </a:endParaRPr>
          </a:p>
        </p:txBody>
      </p:sp>
      <p:pic>
        <p:nvPicPr>
          <p:cNvPr id="122" name="Image 8" descr=""/>
          <p:cNvPicPr/>
          <p:nvPr/>
        </p:nvPicPr>
        <p:blipFill>
          <a:blip r:embed="rId1"/>
          <a:srcRect l="-9104" t="0" r="-9104" b="0"/>
          <a:stretch/>
        </p:blipFill>
        <p:spPr>
          <a:xfrm>
            <a:off x="34920" y="0"/>
            <a:ext cx="302436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56840" y="1341360"/>
            <a:ext cx="4040280" cy="4037040"/>
          </a:xfrm>
          <a:prstGeom prst="rect">
            <a:avLst/>
          </a:prstGeom>
          <a:noFill/>
          <a:ln w="9360">
            <a:solidFill>
              <a:srgbClr val="78d4db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1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Critères relatifs aux objectifs du Programme Opérationnel </a:t>
            </a: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- Contribution à l’augmentation de l’activité de transformation d’entreprises certifiées bois des alpes </a:t>
            </a: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- Valeur ajoutée inter régionale </a:t>
            </a: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- Respect des priorités transversales (égalité hommes-femmes / développement durable/ lutte contre les discriminations)</a:t>
            </a: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15328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1600" spc="-1" strike="noStrike">
                <a:solidFill>
                  <a:srgbClr val="083763"/>
                </a:solidFill>
                <a:latin typeface="Calibri Light"/>
              </a:rPr>
              <a:t>Appel à proposition OS3:    </a:t>
            </a:r>
            <a:r>
              <a:rPr b="1" lang="fr-FR" sz="1600" spc="-1" strike="noStrike">
                <a:solidFill>
                  <a:srgbClr val="000000"/>
                </a:solidFill>
                <a:latin typeface="Calibri Light"/>
              </a:rPr>
              <a:t>Consolider la filière alpine de la transformation du bois pour la construction </a:t>
            </a:r>
            <a:endParaRPr b="0" lang="en-US" sz="1600" spc="-1" strike="noStrike">
              <a:solidFill>
                <a:srgbClr val="30a9b1"/>
              </a:solidFill>
              <a:latin typeface="Calibri Light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65520" y="1341360"/>
            <a:ext cx="4044960" cy="4037040"/>
          </a:xfrm>
          <a:prstGeom prst="rect">
            <a:avLst/>
          </a:prstGeom>
          <a:noFill/>
          <a:ln w="9360">
            <a:solidFill>
              <a:srgbClr val="78d4db"/>
            </a:solidFill>
            <a:miter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Critères relatifs à la « qualité » du projet: </a:t>
            </a: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- Caractère innovant du projet </a:t>
            </a: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- Inscription dans le cadre de stratégies locales de développement forestier ou d’outils de planification territoriaux prenant en compte la gestion </a:t>
            </a: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126" name="Espace réservé du numéro de diapositive 6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80F6A-2F71-4276-B722-339480616780}" type="slidenum">
              <a:rPr b="0" lang="fr-F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0a9b1"/>
              </a:solidFill>
              <a:latin typeface="Calibri"/>
            </a:endParaRPr>
          </a:p>
        </p:txBody>
      </p:sp>
      <p:pic>
        <p:nvPicPr>
          <p:cNvPr id="127" name="Image 8" descr=""/>
          <p:cNvPicPr/>
          <p:nvPr/>
        </p:nvPicPr>
        <p:blipFill>
          <a:blip r:embed="rId1"/>
          <a:srcRect l="-9104" t="0" r="-9104" b="0"/>
          <a:stretch/>
        </p:blipFill>
        <p:spPr>
          <a:xfrm>
            <a:off x="755640" y="-42840"/>
            <a:ext cx="302436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13557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3300" spc="-1" strike="noStrike">
                <a:solidFill>
                  <a:srgbClr val="30a9b1"/>
                </a:solidFill>
                <a:latin typeface="Calibri Light"/>
              </a:rPr>
              <a:t>Témoignages</a:t>
            </a:r>
            <a:br>
              <a:rPr sz="3300"/>
            </a:br>
            <a:r>
              <a:rPr b="0" lang="fr-FR" sz="3300" spc="-1" strike="noStrike">
                <a:solidFill>
                  <a:srgbClr val="30a9b1"/>
                </a:solidFill>
                <a:latin typeface="Calibri Light"/>
              </a:rPr>
              <a:t>Enjeux et perspectives d’acteurs locaux</a:t>
            </a:r>
            <a:br>
              <a:rPr sz="3300"/>
            </a:br>
            <a:endParaRPr b="0" lang="en-US" sz="3300" spc="-1" strike="noStrike">
              <a:solidFill>
                <a:srgbClr val="30a9b1"/>
              </a:solidFill>
              <a:latin typeface="Calibri Light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28560" y="2707920"/>
            <a:ext cx="7886880" cy="34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2800" spc="-1" strike="noStrike">
                <a:solidFill>
                  <a:srgbClr val="30a9b1"/>
                </a:solidFill>
                <a:latin typeface="Calibri"/>
              </a:rPr>
              <a:t>URACOFOR: Union régionale des Communes Forestières</a:t>
            </a:r>
            <a:endParaRPr b="0" lang="en-US" sz="2800" spc="-1" strike="noStrike">
              <a:solidFill>
                <a:srgbClr val="30a9b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547280" y="1483920"/>
            <a:ext cx="6264360" cy="3924360"/>
          </a:xfrm>
          <a:prstGeom prst="rect">
            <a:avLst/>
          </a:prstGeom>
          <a:noFill/>
          <a:ln w="9360">
            <a:solidFill>
              <a:srgbClr val="78d4db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2100" spc="-1" strike="noStrike">
                <a:solidFill>
                  <a:srgbClr val="30a9b1"/>
                </a:solidFill>
                <a:latin typeface="Calibri"/>
              </a:rPr>
              <a:t>	</a:t>
            </a: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2400" spc="-1" strike="noStrike">
                <a:solidFill>
                  <a:srgbClr val="30a9b1"/>
                </a:solidFill>
                <a:latin typeface="Calibri"/>
              </a:rPr>
              <a:t>Présentation du </a:t>
            </a:r>
            <a:endParaRPr b="0" lang="en-US" sz="2400" spc="-1" strike="noStrike">
              <a:solidFill>
                <a:srgbClr val="30a9b1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2400" spc="-1" strike="noStrike">
                <a:solidFill>
                  <a:srgbClr val="30a9b1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30a9b1"/>
                </a:solidFill>
                <a:latin typeface="Calibri"/>
              </a:rPr>
              <a:t>Programme Opérationnel Inter régional Massif des Alpes </a:t>
            </a:r>
            <a:endParaRPr b="0" lang="en-US" sz="2400" spc="-1" strike="noStrike">
              <a:solidFill>
                <a:srgbClr val="30a9b1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2400" spc="-1" strike="noStrike">
                <a:solidFill>
                  <a:srgbClr val="30a9b1"/>
                </a:solidFill>
                <a:latin typeface="Calibri"/>
              </a:rPr>
              <a:t>2014-2020</a:t>
            </a:r>
            <a:endParaRPr b="0" lang="en-US" sz="24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51" name="Espace réservé du numéro de diapositive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CEB69-B563-4309-AAD6-EF1355C0E90C}" type="slidenum">
              <a:rPr b="0" lang="fr-F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0a9b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56840" y="1341360"/>
            <a:ext cx="4040280" cy="4037040"/>
          </a:xfrm>
          <a:prstGeom prst="rect">
            <a:avLst/>
          </a:prstGeom>
          <a:noFill/>
          <a:ln w="9360">
            <a:solidFill>
              <a:srgbClr val="78d4db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1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1600" spc="-1" strike="noStrike">
                <a:solidFill>
                  <a:srgbClr val="0070c0"/>
                </a:solidFill>
                <a:latin typeface="Calibri"/>
              </a:rPr>
              <a:t>Etendre et améliorer la gestion intégrée des risques naturels sur le massif (OS4)</a:t>
            </a: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Développer la gestion intégrée des risques naturels sur le territoire alpin</a:t>
            </a: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Calibri"/>
              </a:rPr>
              <a:t>12 M€  dont 6 M€ FEDER ( PI3d)</a:t>
            </a: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alibri"/>
              </a:rPr>
              <a:t>Résultat visé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Accroissement du taux de la population alpine concernée par une démarche de gestion intégrée des risques naturels: de 7% en 2014 à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14,4 %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en 2023</a:t>
            </a: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( + 372 000 habitants)</a:t>
            </a: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15328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Axe 3: </a:t>
            </a:r>
            <a:r>
              <a:rPr b="1" lang="fr-FR" sz="1600" spc="-1" strike="noStrike">
                <a:solidFill>
                  <a:srgbClr val="000000"/>
                </a:solidFill>
                <a:latin typeface="Calibri Light"/>
              </a:rPr>
              <a:t>Développer la résilience des territoires et des populations face aux risques naturels</a:t>
            </a:r>
            <a:br>
              <a:rPr sz="1600"/>
            </a:br>
            <a:endParaRPr b="0" lang="en-US" sz="1600" spc="-1" strike="noStrike">
              <a:solidFill>
                <a:srgbClr val="30a9b1"/>
              </a:solidFill>
              <a:latin typeface="Calibri Light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65520" y="1341360"/>
            <a:ext cx="4044960" cy="4037040"/>
          </a:xfrm>
          <a:prstGeom prst="rect">
            <a:avLst/>
          </a:prstGeom>
          <a:noFill/>
          <a:ln w="9360">
            <a:solidFill>
              <a:srgbClr val="78d4db"/>
            </a:solidFill>
            <a:miter/>
          </a:ln>
        </p:spPr>
        <p:txBody>
          <a:bodyPr anchor="t">
            <a:normAutofit/>
          </a:bodyPr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Mise en œuvre de démarches locales de gestion intégrée des risques naturels: Animation des territoires alpins de gestion intégrée des risques naturels / Actions de prévision, prévention et gestion de crise de gestion intégrée des risques naturels</a:t>
            </a: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Actions interrégionales de sensibilisation et de mise en réseau pour une meilleure gestion intégrée</a:t>
            </a: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Projets innovants de recherche action transférables aux gestionnaires de risques</a:t>
            </a: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 algn="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 algn="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alibri"/>
              </a:rPr>
              <a:t>Réalisations visées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 algn="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Nb de plans d’actions de gestion intégrée des risques: 33</a:t>
            </a: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 algn="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Nb de réunions interrégionales:16</a:t>
            </a: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 algn="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Nb de partenariats scientifiques opérationnels: 6</a:t>
            </a: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133" name="Espace réservé du numéro de diapositive 6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5F655-D89F-4EBF-98FF-59069354E797}" type="slidenum">
              <a:rPr b="0" lang="fr-F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134" name="Rectangle 13"/>
          <p:cNvSpPr/>
          <p:nvPr/>
        </p:nvSpPr>
        <p:spPr>
          <a:xfrm>
            <a:off x="457200" y="5421240"/>
            <a:ext cx="815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  <a:ea typeface="Arial"/>
              </a:rPr>
              <a:t>Bénéficiaires cibles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Arial"/>
              </a:rPr>
              <a:t>: Collectivités territoriales syndicats mixtes, associations, groupement d’intérêt scientifique…</a:t>
            </a:r>
            <a:endParaRPr b="0" lang="en-US" sz="1400" spc="-1" strike="noStrike">
              <a:solidFill>
                <a:srgbClr val="30a9b1"/>
              </a:solidFill>
              <a:latin typeface="Calibri"/>
            </a:endParaRPr>
          </a:p>
        </p:txBody>
      </p:sp>
      <p:pic>
        <p:nvPicPr>
          <p:cNvPr id="135" name="Image 8" descr=""/>
          <p:cNvPicPr/>
          <p:nvPr/>
        </p:nvPicPr>
        <p:blipFill>
          <a:blip r:embed="rId1"/>
          <a:srcRect l="-9104" t="0" r="-9104" b="0"/>
          <a:stretch/>
        </p:blipFill>
        <p:spPr>
          <a:xfrm>
            <a:off x="34920" y="0"/>
            <a:ext cx="302436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56840" y="1341360"/>
            <a:ext cx="4040280" cy="4037040"/>
          </a:xfrm>
          <a:prstGeom prst="rect">
            <a:avLst/>
          </a:prstGeom>
          <a:noFill/>
          <a:ln w="9360">
            <a:solidFill>
              <a:srgbClr val="78d4db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1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Critères relatifs aux objectifs du Programme Opérationnel </a:t>
            </a: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- Contribution à l’augmentation de la population concernée par une démarche de gestion intégrée des risques naturels </a:t>
            </a: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- Valeur ajoutée inter régionale </a:t>
            </a: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- Respect des priorités transversales (égalité hommes-femmes / développement durable / lutte contre les discriminations) </a:t>
            </a: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15328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Appel à proposition OS4: Résilience des territoires et des populations face aux risques naturels</a:t>
            </a:r>
            <a:br>
              <a:rPr sz="1600"/>
            </a:br>
            <a:endParaRPr b="0" lang="en-US" sz="1600" spc="-1" strike="noStrike">
              <a:solidFill>
                <a:srgbClr val="30a9b1"/>
              </a:solidFill>
              <a:latin typeface="Calibri Light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65520" y="1341360"/>
            <a:ext cx="4044960" cy="4037040"/>
          </a:xfrm>
          <a:prstGeom prst="rect">
            <a:avLst/>
          </a:prstGeom>
          <a:noFill/>
          <a:ln w="9360">
            <a:solidFill>
              <a:srgbClr val="78d4db"/>
            </a:solidFill>
            <a:miter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Calibri"/>
              </a:rPr>
              <a:t>Critères relatifs à la « qualité» du projet: </a:t>
            </a:r>
            <a:endParaRPr b="0" lang="en-US" sz="23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- Caractère innovant du projet </a:t>
            </a:r>
            <a:endParaRPr b="0" lang="en-US" sz="19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- Caractère partenarial du projet (en particulier qualité de l’association entre scientifiques et acteurs locaux pour les projets de recherche action) </a:t>
            </a:r>
            <a:endParaRPr b="0" lang="en-US" sz="19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- Intégration d’actions d’information et de formation des gestionnaires locaux </a:t>
            </a:r>
            <a:endParaRPr b="0" lang="en-US" sz="19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- Projet situé sur un territoire alpin de Gestion Intégrée des Risques Naturels </a:t>
            </a:r>
            <a:endParaRPr b="0" lang="en-US" sz="19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3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4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139" name="Espace réservé du numéro de diapositive 6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8E06E-F208-423F-B011-5F09DAC7A42F}" type="slidenum">
              <a:rPr b="0" lang="fr-F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0a9b1"/>
              </a:solidFill>
              <a:latin typeface="Calibri"/>
            </a:endParaRPr>
          </a:p>
        </p:txBody>
      </p:sp>
      <p:pic>
        <p:nvPicPr>
          <p:cNvPr id="140" name="Image 8" descr=""/>
          <p:cNvPicPr/>
          <p:nvPr/>
        </p:nvPicPr>
        <p:blipFill>
          <a:blip r:embed="rId1"/>
          <a:srcRect l="-9104" t="0" r="-9104" b="0"/>
          <a:stretch/>
        </p:blipFill>
        <p:spPr>
          <a:xfrm>
            <a:off x="34920" y="0"/>
            <a:ext cx="302436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13557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3300" spc="-1" strike="noStrike">
                <a:solidFill>
                  <a:srgbClr val="30a9b1"/>
                </a:solidFill>
                <a:latin typeface="Calibri Light"/>
              </a:rPr>
              <a:t>Témoignages</a:t>
            </a:r>
            <a:br>
              <a:rPr sz="3300"/>
            </a:br>
            <a:r>
              <a:rPr b="0" lang="fr-FR" sz="3300" spc="-1" strike="noStrike">
                <a:solidFill>
                  <a:srgbClr val="30a9b1"/>
                </a:solidFill>
                <a:latin typeface="Calibri Light"/>
              </a:rPr>
              <a:t>Enjeux et perspectives d’acteurs locaux</a:t>
            </a:r>
            <a:br>
              <a:rPr sz="3300"/>
            </a:br>
            <a:endParaRPr b="0" lang="en-US" sz="3300" spc="-1" strike="noStrike">
              <a:solidFill>
                <a:srgbClr val="30a9b1"/>
              </a:solidFill>
              <a:latin typeface="Calibri Light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28560" y="2707920"/>
            <a:ext cx="7886880" cy="34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2800" spc="-1" strike="noStrike">
                <a:solidFill>
                  <a:srgbClr val="30a9b1"/>
                </a:solidFill>
                <a:latin typeface="Calibri"/>
              </a:rPr>
              <a:t>PARN: </a:t>
            </a:r>
            <a:endParaRPr b="0" lang="en-US" sz="2800" spc="-1" strike="noStrike">
              <a:solidFill>
                <a:srgbClr val="30a9b1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2800" spc="-1" strike="noStrike">
                <a:solidFill>
                  <a:srgbClr val="30a9b1"/>
                </a:solidFill>
                <a:latin typeface="Calibri"/>
              </a:rPr>
              <a:t>Pôle Alpin d’Etudes et de recherche pour la Prévention des risques Naturels</a:t>
            </a:r>
            <a:endParaRPr b="0" lang="en-US" sz="2800" spc="-1" strike="noStrike">
              <a:solidFill>
                <a:srgbClr val="30a9b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331640" y="1773000"/>
            <a:ext cx="6335640" cy="3816360"/>
          </a:xfrm>
          <a:prstGeom prst="rect">
            <a:avLst/>
          </a:prstGeom>
          <a:noFill/>
          <a:ln w="9360">
            <a:solidFill>
              <a:srgbClr val="78d4db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E6D94-41B4-409E-A1E8-70B49E55D412}" type="slidenum">
              <a:rPr b="0" lang="fr-F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359000" y="1056960"/>
            <a:ext cx="6308640" cy="571320"/>
          </a:xfrm>
          <a:prstGeom prst="rect">
            <a:avLst/>
          </a:prstGeom>
          <a:noFill/>
          <a:ln w="9360">
            <a:solidFill>
              <a:srgbClr val="78d4db"/>
            </a:solidFill>
            <a:miter/>
          </a:ln>
        </p:spPr>
        <p:txBody>
          <a:bodyPr anchor="b">
            <a:normAutofit/>
          </a:bodyPr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1700" spc="-1" strike="noStrike">
                <a:solidFill>
                  <a:srgbClr val="30a9b2"/>
                </a:solidFill>
                <a:latin typeface="Calibri"/>
              </a:rPr>
              <a:t>QUAND?</a:t>
            </a:r>
            <a:endParaRPr b="0" lang="en-US" sz="1700" spc="-1" strike="noStrike">
              <a:solidFill>
                <a:srgbClr val="30a9b1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1700" spc="-1" strike="noStrike">
                <a:solidFill>
                  <a:srgbClr val="30a9b2"/>
                </a:solidFill>
                <a:latin typeface="Calibri"/>
              </a:rPr>
              <a:t>Appels 2015: Calendrier estimatif des premiers appels</a:t>
            </a:r>
            <a:endParaRPr b="0" lang="en-US" sz="1700" spc="-1" strike="noStrike">
              <a:solidFill>
                <a:srgbClr val="30a9b1"/>
              </a:solidFill>
              <a:latin typeface="Calibri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908000" y="2421000"/>
          <a:ext cx="5040360" cy="1249200"/>
        </p:xfrm>
        <a:graphic>
          <a:graphicData uri="http://schemas.openxmlformats.org/drawingml/2006/table">
            <a:tbl>
              <a:tblPr/>
              <a:tblGrid>
                <a:gridCol w="1733760"/>
                <a:gridCol w="3306600"/>
              </a:tblGrid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épôt du dossier</a:t>
                      </a:r>
                      <a:endParaRPr b="0" lang="en-US" sz="14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écision Comité Régional de programmation</a:t>
                      </a:r>
                      <a:endParaRPr b="0" lang="en-US" sz="14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30a9b1"/>
                          </a:solidFill>
                          <a:latin typeface="Calibri"/>
                        </a:rPr>
                        <a:t>Ingénierie Espace valléen</a:t>
                      </a:r>
                      <a:endParaRPr b="0" lang="en-US" sz="14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30a9b1"/>
                          </a:solidFill>
                          <a:latin typeface="Calibri"/>
                        </a:rPr>
                        <a:t>CRP Juillet</a:t>
                      </a:r>
                      <a:endParaRPr b="0" lang="en-US" sz="14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1359000" y="2133720"/>
          <a:ext cx="6095880" cy="191448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fr-FR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épôt dossier complet</a:t>
                      </a:r>
                      <a:endParaRPr b="0" lang="en-US" sz="13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fr-FR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mité Regional de Programmation</a:t>
                      </a:r>
                      <a:endParaRPr b="0" lang="en-US" sz="13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pel Ingénierie Espace valléen</a:t>
                      </a:r>
                      <a:endParaRPr b="0" lang="en-US" sz="13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AVRIL 2015</a:t>
                      </a:r>
                      <a:endParaRPr b="0" lang="en-US" sz="13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ité Régional programmation : Juillet</a:t>
                      </a:r>
                      <a:endParaRPr b="0" lang="en-US" sz="13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888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res Appels :</a:t>
                      </a:r>
                      <a:endParaRPr b="0" lang="en-US" sz="13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Mai  2015</a:t>
                      </a:r>
                      <a:endParaRPr b="0" lang="en-US" sz="13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 2015</a:t>
                      </a:r>
                      <a:endParaRPr b="0" lang="en-US" sz="13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définir</a:t>
                      </a:r>
                      <a:endParaRPr b="0" lang="en-US" sz="13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écembre2015</a:t>
                      </a:r>
                      <a:endParaRPr b="0" lang="en-US" sz="13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371240" y="1676160"/>
            <a:ext cx="6335640" cy="4128840"/>
          </a:xfrm>
          <a:prstGeom prst="rect">
            <a:avLst/>
          </a:prstGeom>
          <a:noFill/>
          <a:ln w="9360">
            <a:solidFill>
              <a:srgbClr val="78d4db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2000" spc="-1" strike="noStrike">
                <a:solidFill>
                  <a:srgbClr val="30a9b1"/>
                </a:solidFill>
                <a:latin typeface="Calibri"/>
                <a:ea typeface="MS PGothic"/>
              </a:rPr>
              <a:t>Conseil Régional Provence Alpes Côte d’Azur</a:t>
            </a: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2000" spc="-1" strike="noStrike">
                <a:solidFill>
                  <a:srgbClr val="30a9b1"/>
                </a:solidFill>
                <a:latin typeface="Calibri"/>
                <a:ea typeface="MS PGothic"/>
              </a:rPr>
              <a:t>Direction des Affaires Européennes </a:t>
            </a: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30a9b1"/>
              </a:buClr>
              <a:buFont typeface="Wingdings" charset="2"/>
              <a:buChar char="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2000" spc="-1" strike="noStrike">
                <a:solidFill>
                  <a:srgbClr val="30a9b1"/>
                </a:solidFill>
                <a:latin typeface="Calibri"/>
                <a:ea typeface="MS PGothic"/>
              </a:rPr>
              <a:t>Appel à proposition </a:t>
            </a: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30a9b1"/>
              </a:buClr>
              <a:buFont typeface="Wingdings" charset="2"/>
              <a:buChar char="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2000" spc="-1" strike="noStrike">
                <a:solidFill>
                  <a:srgbClr val="30a9b1"/>
                </a:solidFill>
                <a:latin typeface="Calibri"/>
                <a:ea typeface="MS PGothic"/>
              </a:rPr>
              <a:t> </a:t>
            </a:r>
            <a:r>
              <a:rPr b="1" lang="fr-FR" sz="2000" spc="-1" strike="noStrike">
                <a:solidFill>
                  <a:srgbClr val="30a9b1"/>
                </a:solidFill>
                <a:latin typeface="Calibri"/>
                <a:ea typeface="MS PGothic"/>
              </a:rPr>
              <a:t>Guide du porteur de projet</a:t>
            </a: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2000" spc="-1" strike="noStrike" u="sng">
                <a:solidFill>
                  <a:srgbClr val="f49100"/>
                </a:solidFill>
                <a:uFillTx/>
                <a:latin typeface="Calibri"/>
                <a:ea typeface="MS PGothic"/>
                <a:hlinkClick r:id="rId1"/>
              </a:rPr>
              <a:t>http://Programmes-europeens-2014-2020.regionpaca.fr</a:t>
            </a: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2000" spc="-1" strike="noStrike" u="sng">
                <a:solidFill>
                  <a:srgbClr val="f49100"/>
                </a:solidFill>
                <a:uFillTx/>
                <a:latin typeface="Calibri"/>
                <a:ea typeface="MS PGothic"/>
                <a:hlinkClick r:id="rId2"/>
              </a:rPr>
              <a:t>http://europe.regionpaca.fr</a:t>
            </a: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2000" spc="-1" strike="noStrike">
                <a:solidFill>
                  <a:srgbClr val="30a9b1"/>
                </a:solidFill>
                <a:latin typeface="Wingdings"/>
                <a:ea typeface="Wingdings"/>
              </a:rPr>
              <a:t></a:t>
            </a:r>
            <a:r>
              <a:rPr b="1" lang="fr-FR" sz="2000" spc="-1" strike="noStrike">
                <a:solidFill>
                  <a:srgbClr val="30a9b1"/>
                </a:solidFill>
                <a:latin typeface="Calibri"/>
                <a:ea typeface="MS PGothic"/>
              </a:rPr>
              <a:t> </a:t>
            </a:r>
            <a:r>
              <a:rPr b="1" lang="fr-FR" sz="2000" spc="-1" strike="noStrike">
                <a:solidFill>
                  <a:srgbClr val="30a9b1"/>
                </a:solidFill>
                <a:latin typeface="Calibri"/>
                <a:ea typeface="MS PGothic"/>
              </a:rPr>
              <a:t>Contact       </a:t>
            </a:r>
            <a:r>
              <a:rPr b="0" lang="fr-FR" sz="2000" spc="-1" strike="noStrike">
                <a:solidFill>
                  <a:srgbClr val="30a9b1"/>
                </a:solidFill>
                <a:latin typeface="Calibri"/>
                <a:ea typeface="MS PGothic"/>
              </a:rPr>
              <a:t>04 88 73 78 01 </a:t>
            </a: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2000" spc="-1" strike="noStrike">
                <a:solidFill>
                  <a:srgbClr val="30a9b1"/>
                </a:solidFill>
                <a:latin typeface="Calibri"/>
                <a:ea typeface="MS PGothic"/>
              </a:rPr>
              <a:t>Service Pilotage et Accompagnement Européen</a:t>
            </a: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2000" spc="-1" strike="noStrike" u="sng">
                <a:solidFill>
                  <a:srgbClr val="f49100"/>
                </a:solidFill>
                <a:uFillTx/>
                <a:latin typeface="Calibri"/>
                <a:ea typeface="MS PGothic"/>
                <a:hlinkClick r:id="rId3"/>
              </a:rPr>
              <a:t>monprojeteuropeen@regionpaca.fr</a:t>
            </a: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149" name="Espace réservé du numéro de diapositive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3A19-8546-4349-9720-A69239E699DA}" type="slidenum">
              <a:rPr b="0" lang="fr-FR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371600" y="914400"/>
            <a:ext cx="6308640" cy="571680"/>
          </a:xfrm>
          <a:prstGeom prst="rect">
            <a:avLst/>
          </a:prstGeom>
          <a:noFill/>
          <a:ln w="9360">
            <a:solidFill>
              <a:srgbClr val="78d4db"/>
            </a:solidFill>
            <a:miter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1800" spc="-1" strike="noStrike">
                <a:solidFill>
                  <a:srgbClr val="7f7f7f"/>
                </a:solidFill>
                <a:latin typeface="Calibri"/>
                <a:ea typeface="MS PGothic"/>
              </a:rPr>
              <a:t>Où?</a:t>
            </a: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</p:txBody>
      </p:sp>
      <p:pic>
        <p:nvPicPr>
          <p:cNvPr id="151" name="Image 4" descr=""/>
          <p:cNvPicPr/>
          <p:nvPr/>
        </p:nvPicPr>
        <p:blipFill>
          <a:blip r:embed="rId4"/>
          <a:stretch/>
        </p:blipFill>
        <p:spPr>
          <a:xfrm>
            <a:off x="6164280" y="44280"/>
            <a:ext cx="2981160" cy="7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Image 1" descr=""/>
          <p:cNvPicPr/>
          <p:nvPr/>
        </p:nvPicPr>
        <p:blipFill>
          <a:blip r:embed="rId1"/>
          <a:stretch/>
        </p:blipFill>
        <p:spPr>
          <a:xfrm>
            <a:off x="5580000" y="981000"/>
            <a:ext cx="3276720" cy="4754520"/>
          </a:xfrm>
          <a:prstGeom prst="rect">
            <a:avLst/>
          </a:prstGeom>
          <a:ln w="0">
            <a:noFill/>
          </a:ln>
        </p:spPr>
      </p:pic>
      <p:sp>
        <p:nvSpPr>
          <p:cNvPr id="153" name="ZoneTexte 2"/>
          <p:cNvSpPr/>
          <p:nvPr/>
        </p:nvSpPr>
        <p:spPr>
          <a:xfrm>
            <a:off x="324000" y="981000"/>
            <a:ext cx="46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0a9b2"/>
                </a:solidFill>
                <a:latin typeface="Calibri"/>
                <a:ea typeface="MS PGothic"/>
              </a:rPr>
              <a:t>Un nouveau site internet dédié aux fonds européens </a:t>
            </a: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0a9b2"/>
                </a:solidFill>
                <a:latin typeface="Calibri"/>
                <a:ea typeface="MS PGothic"/>
              </a:rPr>
              <a:t>en Région Provence-Alpes-Côte d’Azur </a:t>
            </a: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f49100"/>
                </a:solidFill>
                <a:uFillTx/>
                <a:latin typeface="Calibri"/>
                <a:ea typeface="MS PGothic"/>
                <a:hlinkClick r:id="rId2"/>
              </a:rPr>
              <a:t>Htttp://europe.regionpaca.fr</a:t>
            </a:r>
            <a:r>
              <a:rPr b="1" lang="fr-FR" sz="1800" spc="-1" strike="noStrike">
                <a:solidFill>
                  <a:srgbClr val="30a9b2"/>
                </a:solidFill>
                <a:latin typeface="Calibri"/>
                <a:ea typeface="MS PGothic"/>
              </a:rPr>
              <a:t>  </a:t>
            </a: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</p:txBody>
      </p:sp>
      <p:cxnSp>
        <p:nvCxnSpPr>
          <p:cNvPr id="154" name="Connecteur droit avec flèche 8"/>
          <p:cNvCxnSpPr/>
          <p:nvPr/>
        </p:nvCxnSpPr>
        <p:spPr>
          <a:xfrm flipV="1">
            <a:off x="4724280" y="1412640"/>
            <a:ext cx="1936080" cy="1126080"/>
          </a:xfrm>
          <a:prstGeom prst="straightConnector1">
            <a:avLst/>
          </a:prstGeom>
          <a:ln w="6480">
            <a:solidFill>
              <a:srgbClr val="009dd9"/>
            </a:solidFill>
            <a:miter/>
            <a:tailEnd len="med" type="triangle" w="med"/>
          </a:ln>
        </p:spPr>
      </p:cxnSp>
      <p:sp>
        <p:nvSpPr>
          <p:cNvPr id="155" name="ZoneTexte 10"/>
          <p:cNvSpPr/>
          <p:nvPr/>
        </p:nvSpPr>
        <p:spPr>
          <a:xfrm>
            <a:off x="2803680" y="242892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0a9b2"/>
                </a:solidFill>
                <a:latin typeface="Calibri"/>
                <a:ea typeface="MS PGothic"/>
              </a:rPr>
              <a:t>Entrée programme </a:t>
            </a: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</p:txBody>
      </p:sp>
      <p:cxnSp>
        <p:nvCxnSpPr>
          <p:cNvPr id="156" name="Connecteur droit avec flèche 15"/>
          <p:cNvCxnSpPr>
            <a:stCxn id="157" idx="3"/>
          </p:cNvCxnSpPr>
          <p:nvPr/>
        </p:nvCxnSpPr>
        <p:spPr>
          <a:xfrm flipV="1">
            <a:off x="5324400" y="2647800"/>
            <a:ext cx="1658160" cy="322920"/>
          </a:xfrm>
          <a:prstGeom prst="straightConnector1">
            <a:avLst/>
          </a:prstGeom>
          <a:ln w="6480">
            <a:solidFill>
              <a:srgbClr val="009dd9"/>
            </a:solidFill>
            <a:miter/>
            <a:tailEnd len="med" type="triangle" w="med"/>
          </a:ln>
        </p:spPr>
      </p:cxnSp>
      <p:sp>
        <p:nvSpPr>
          <p:cNvPr id="157" name="ZoneTexte 18"/>
          <p:cNvSpPr/>
          <p:nvPr/>
        </p:nvSpPr>
        <p:spPr>
          <a:xfrm>
            <a:off x="2803680" y="278604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0a9b2"/>
                </a:solidFill>
                <a:latin typeface="Calibri"/>
                <a:ea typeface="MS PGothic"/>
              </a:rPr>
              <a:t>Entrée porteur de projet</a:t>
            </a: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158" name="ZoneTexte 26"/>
          <p:cNvSpPr/>
          <p:nvPr/>
        </p:nvSpPr>
        <p:spPr>
          <a:xfrm>
            <a:off x="2803680" y="3201840"/>
            <a:ext cx="23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0a9b2"/>
                </a:solidFill>
                <a:latin typeface="Calibri"/>
                <a:ea typeface="MS PGothic"/>
              </a:rPr>
              <a:t>Entrée bénéficiaire</a:t>
            </a: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</p:txBody>
      </p:sp>
      <p:cxnSp>
        <p:nvCxnSpPr>
          <p:cNvPr id="159" name="Connecteur droit avec flèche 29"/>
          <p:cNvCxnSpPr/>
          <p:nvPr/>
        </p:nvCxnSpPr>
        <p:spPr>
          <a:xfrm flipV="1">
            <a:off x="4787640" y="2923560"/>
            <a:ext cx="2880360" cy="478440"/>
          </a:xfrm>
          <a:prstGeom prst="straightConnector1">
            <a:avLst/>
          </a:prstGeom>
          <a:ln w="6480">
            <a:solidFill>
              <a:srgbClr val="009dd9"/>
            </a:solidFill>
            <a:miter/>
            <a:tailEnd len="med" type="triangle" w="med"/>
          </a:ln>
        </p:spPr>
      </p:cxnSp>
      <p:sp>
        <p:nvSpPr>
          <p:cNvPr id="160" name="ZoneTexte 30"/>
          <p:cNvSpPr/>
          <p:nvPr/>
        </p:nvSpPr>
        <p:spPr>
          <a:xfrm>
            <a:off x="2843280" y="38926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0a9b2"/>
                </a:solidFill>
                <a:latin typeface="Calibri"/>
                <a:ea typeface="MS PGothic"/>
              </a:rPr>
              <a:t>Appels en cours </a:t>
            </a: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</p:txBody>
      </p:sp>
      <p:cxnSp>
        <p:nvCxnSpPr>
          <p:cNvPr id="161" name="Connecteur droit avec flèche 32"/>
          <p:cNvCxnSpPr/>
          <p:nvPr/>
        </p:nvCxnSpPr>
        <p:spPr>
          <a:xfrm>
            <a:off x="4571640" y="4076280"/>
            <a:ext cx="3025080" cy="1080"/>
          </a:xfrm>
          <a:prstGeom prst="straightConnector1">
            <a:avLst/>
          </a:prstGeom>
          <a:ln w="6480">
            <a:solidFill>
              <a:srgbClr val="009dd9"/>
            </a:solidFill>
            <a:miter/>
            <a:tailEnd len="med" type="triangle" w="med"/>
          </a:ln>
        </p:spPr>
      </p:cxnSp>
      <p:sp>
        <p:nvSpPr>
          <p:cNvPr id="162" name="ZoneTexte 34"/>
          <p:cNvSpPr/>
          <p:nvPr/>
        </p:nvSpPr>
        <p:spPr>
          <a:xfrm>
            <a:off x="2843280" y="439092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0a9b2"/>
                </a:solidFill>
                <a:latin typeface="Calibri"/>
                <a:ea typeface="MS PGothic"/>
              </a:rPr>
              <a:t>Espace partenaire </a:t>
            </a: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</p:txBody>
      </p:sp>
      <p:cxnSp>
        <p:nvCxnSpPr>
          <p:cNvPr id="163" name="Connecteur droit avec flèche 36"/>
          <p:cNvCxnSpPr/>
          <p:nvPr/>
        </p:nvCxnSpPr>
        <p:spPr>
          <a:xfrm>
            <a:off x="4724280" y="4583160"/>
            <a:ext cx="1664640" cy="178200"/>
          </a:xfrm>
          <a:prstGeom prst="straightConnector1">
            <a:avLst/>
          </a:prstGeom>
          <a:ln w="6480">
            <a:solidFill>
              <a:srgbClr val="009dd9"/>
            </a:solidFill>
            <a:miter/>
            <a:tailEnd len="med" type="triangle" w="med"/>
          </a:ln>
        </p:spPr>
      </p:cxnSp>
      <p:sp>
        <p:nvSpPr>
          <p:cNvPr id="164" name="ZoneTexte 38"/>
          <p:cNvSpPr/>
          <p:nvPr/>
        </p:nvSpPr>
        <p:spPr>
          <a:xfrm>
            <a:off x="2916360" y="494172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0a9b2"/>
                </a:solidFill>
                <a:latin typeface="Calibri"/>
                <a:ea typeface="MS PGothic"/>
              </a:rPr>
              <a:t>Agenda </a:t>
            </a: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</p:txBody>
      </p:sp>
      <p:cxnSp>
        <p:nvCxnSpPr>
          <p:cNvPr id="165" name="Connecteur droit avec flèche 40"/>
          <p:cNvCxnSpPr/>
          <p:nvPr/>
        </p:nvCxnSpPr>
        <p:spPr>
          <a:xfrm flipV="1">
            <a:off x="3956040" y="4941360"/>
            <a:ext cx="4145760" cy="185040"/>
          </a:xfrm>
          <a:prstGeom prst="straightConnector1">
            <a:avLst/>
          </a:prstGeom>
          <a:ln w="6480">
            <a:solidFill>
              <a:srgbClr val="009dd9"/>
            </a:solidFill>
            <a:miter/>
            <a:tailEnd len="med" type="triangle" w="med"/>
          </a:ln>
        </p:spPr>
      </p:cxnSp>
      <p:pic>
        <p:nvPicPr>
          <p:cNvPr id="166" name="Image 16" descr=""/>
          <p:cNvPicPr/>
          <p:nvPr/>
        </p:nvPicPr>
        <p:blipFill>
          <a:blip r:embed="rId3"/>
          <a:stretch/>
        </p:blipFill>
        <p:spPr>
          <a:xfrm>
            <a:off x="6164280" y="44280"/>
            <a:ext cx="2981160" cy="7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331640" y="1773000"/>
            <a:ext cx="6335640" cy="3816360"/>
          </a:xfrm>
          <a:prstGeom prst="rect">
            <a:avLst/>
          </a:prstGeom>
          <a:noFill/>
          <a:ln w="9360">
            <a:solidFill>
              <a:srgbClr val="78d4db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168" name="Espace réservé du numéro de diapositive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53390-1C7E-49C2-BAAE-501AA10735F9}" type="slidenum">
              <a:rPr b="0" lang="fr-F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360440" y="1201680"/>
            <a:ext cx="6308640" cy="571680"/>
          </a:xfrm>
          <a:prstGeom prst="rect">
            <a:avLst/>
          </a:prstGeom>
          <a:noFill/>
          <a:ln w="9360">
            <a:solidFill>
              <a:srgbClr val="78d4db"/>
            </a:solidFill>
            <a:miter/>
          </a:ln>
        </p:spPr>
        <p:txBody>
          <a:bodyPr anchor="b">
            <a:normAutofit/>
          </a:bodyPr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1700" spc="-1" strike="noStrike">
                <a:solidFill>
                  <a:srgbClr val="30a9b2"/>
                </a:solidFill>
                <a:latin typeface="Calibri"/>
              </a:rPr>
              <a:t>Après le dépôt du dossier?</a:t>
            </a:r>
            <a:endParaRPr b="0" lang="en-US" sz="1700" spc="-1" strike="noStrike">
              <a:solidFill>
                <a:srgbClr val="30a9b1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700" spc="-1" strike="noStrike" u="sng">
                <a:solidFill>
                  <a:srgbClr val="f49100"/>
                </a:solidFill>
                <a:uFillTx/>
                <a:latin typeface="Calibri"/>
                <a:hlinkClick r:id="rId1"/>
              </a:rPr>
              <a:t>poia@regionpaca.fr</a:t>
            </a:r>
            <a:endParaRPr b="0" lang="en-US" sz="1700" spc="-1" strike="noStrike">
              <a:solidFill>
                <a:srgbClr val="30a9b1"/>
              </a:solidFill>
              <a:latin typeface="Calibri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908000" y="2421000"/>
          <a:ext cx="5040360" cy="2592360"/>
        </p:xfrm>
        <a:graphic>
          <a:graphicData uri="http://schemas.openxmlformats.org/drawingml/2006/table">
            <a:tbl>
              <a:tblPr/>
              <a:tblGrid>
                <a:gridCol w="1733760"/>
                <a:gridCol w="3306600"/>
              </a:tblGrid>
              <a:tr h="438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épôt du dossier  </a:t>
                      </a:r>
                      <a:endParaRPr b="0" lang="en-US" sz="14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struction</a:t>
                      </a:r>
                      <a:endParaRPr b="0" lang="en-US" sz="14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438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30a9b1"/>
                          </a:solidFill>
                          <a:latin typeface="Calibri"/>
                        </a:rPr>
                        <a:t>Complétude</a:t>
                      </a:r>
                      <a:endParaRPr b="0" lang="en-US" sz="14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30a9b1"/>
                          </a:solidFill>
                          <a:latin typeface="Calibri"/>
                        </a:rPr>
                        <a:t>Vérification administrative</a:t>
                      </a:r>
                      <a:endParaRPr b="0" lang="en-US" sz="14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746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30a9b1"/>
                          </a:solidFill>
                          <a:latin typeface="Calibri"/>
                        </a:rPr>
                        <a:t>Instruction </a:t>
                      </a:r>
                      <a:endParaRPr b="0" lang="en-US" sz="14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30a9b1"/>
                          </a:solidFill>
                          <a:latin typeface="Calibri"/>
                        </a:rPr>
                        <a:t>Critères d’éligibilité, critères de sélection</a:t>
                      </a:r>
                      <a:endParaRPr b="0" lang="en-US" sz="14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30a9b1"/>
                          </a:solidFill>
                          <a:latin typeface="Calibri"/>
                        </a:rPr>
                        <a:t>Notation des projets</a:t>
                      </a:r>
                      <a:endParaRPr b="0" lang="en-US" sz="14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38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30a9b1"/>
                          </a:solidFill>
                          <a:latin typeface="Calibri"/>
                        </a:rPr>
                        <a:t>Sélection</a:t>
                      </a:r>
                      <a:endParaRPr b="0" lang="en-US" sz="14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fr-FR" sz="1400" spc="-1" strike="noStrike">
                          <a:solidFill>
                            <a:srgbClr val="30a9b1"/>
                          </a:solidFill>
                          <a:latin typeface="Calibri"/>
                        </a:rPr>
                        <a:t>Comité technique</a:t>
                      </a:r>
                      <a:endParaRPr b="0" lang="en-US" sz="14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31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30a9b1"/>
                          </a:solidFill>
                          <a:latin typeface="Calibri"/>
                        </a:rPr>
                        <a:t>Programmation</a:t>
                      </a:r>
                      <a:endParaRPr b="0" lang="en-US" sz="14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fr-FR" sz="1400" spc="-1" strike="noStrike">
                          <a:solidFill>
                            <a:srgbClr val="30a9b1"/>
                          </a:solidFill>
                          <a:latin typeface="Calibri"/>
                        </a:rPr>
                        <a:t>Comité Régional de Programmation</a:t>
                      </a:r>
                      <a:endParaRPr b="0" lang="en-US" sz="14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numéro de diapositive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F9773-889B-4146-9C84-EB3632F7D0E3}" type="slidenum">
              <a:rPr b="0" lang="fr-FR" sz="900" spc="-1" strike="noStrike">
                <a:solidFill>
                  <a:srgbClr val="8ec3c8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30a9b1"/>
              </a:solidFill>
              <a:latin typeface="Calibri"/>
            </a:endParaRPr>
          </a:p>
        </p:txBody>
      </p:sp>
      <p:pic>
        <p:nvPicPr>
          <p:cNvPr id="172" name="Image 5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7705440" cy="4321080"/>
          </a:xfrm>
          <a:prstGeom prst="rect">
            <a:avLst/>
          </a:prstGeom>
          <a:ln w="0">
            <a:noFill/>
          </a:ln>
        </p:spPr>
      </p:pic>
      <p:sp>
        <p:nvSpPr>
          <p:cNvPr id="173" name="Titre 1"/>
          <p:cNvSpPr/>
          <p:nvPr/>
        </p:nvSpPr>
        <p:spPr>
          <a:xfrm>
            <a:off x="628560" y="907920"/>
            <a:ext cx="788688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fr-FR" sz="2000" spc="-1" strike="noStrike">
                <a:solidFill>
                  <a:srgbClr val="30a9b1"/>
                </a:solidFill>
                <a:latin typeface="Calibri Light"/>
              </a:rPr>
              <a:t>La </a:t>
            </a:r>
            <a:r>
              <a:rPr b="1" lang="fr-FR" sz="2000" spc="-1" strike="noStrike">
                <a:solidFill>
                  <a:srgbClr val="30a9b1"/>
                </a:solidFill>
                <a:latin typeface="Calibri Light"/>
              </a:rPr>
              <a:t>Procédure d’instruction </a:t>
            </a: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</p:txBody>
      </p:sp>
      <p:pic>
        <p:nvPicPr>
          <p:cNvPr id="174" name="Image 7" descr=""/>
          <p:cNvPicPr/>
          <p:nvPr/>
        </p:nvPicPr>
        <p:blipFill>
          <a:blip r:embed="rId2"/>
          <a:srcRect l="-15349" t="0" r="-15349" b="0"/>
          <a:stretch/>
        </p:blipFill>
        <p:spPr>
          <a:xfrm>
            <a:off x="34920" y="0"/>
            <a:ext cx="309708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15600" y="1265400"/>
            <a:ext cx="7886520" cy="56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000"/>
            </a:br>
            <a:r>
              <a:rPr b="1" lang="fr-FR" sz="2100" spc="-1" strike="noStrike">
                <a:solidFill>
                  <a:srgbClr val="30a9b1"/>
                </a:solidFill>
                <a:latin typeface="Calibri Light"/>
              </a:rPr>
              <a:t>Procédure d’instruction 1/4</a:t>
            </a:r>
            <a:br>
              <a:rPr sz="3000"/>
            </a:br>
            <a:endParaRPr b="0" lang="en-US" sz="2100" spc="-1" strike="noStrike">
              <a:solidFill>
                <a:srgbClr val="30a9b1"/>
              </a:solidFill>
              <a:latin typeface="Calibri Light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96600" y="1700280"/>
            <a:ext cx="7886520" cy="29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138600" indent="-138600">
              <a:lnSpc>
                <a:spcPct val="90000"/>
              </a:lnSpc>
              <a:spcBef>
                <a:spcPts val="751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1800" spc="-1" strike="noStrike">
                <a:solidFill>
                  <a:srgbClr val="30a9b1"/>
                </a:solidFill>
                <a:latin typeface="Calibri"/>
              </a:rPr>
              <a:t>1- Réception et enregistrement des demandes par l’unité administrative  et financière ( UAF) du SGFE </a:t>
            </a:r>
            <a:r>
              <a:rPr b="0" lang="fr-FR" sz="1800" spc="-1" strike="noStrike">
                <a:solidFill>
                  <a:srgbClr val="30a9b1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  <a:p>
            <a:pPr marL="138600" indent="-138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  <a:p>
            <a:pPr marL="138600" indent="-138600">
              <a:lnSpc>
                <a:spcPct val="90000"/>
              </a:lnSpc>
              <a:spcBef>
                <a:spcPts val="751"/>
              </a:spcBef>
              <a:buClr>
                <a:srgbClr val="30a9b1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800" spc="-1" strike="noStrike">
                <a:solidFill>
                  <a:srgbClr val="30a9b1"/>
                </a:solidFill>
                <a:latin typeface="Calibri"/>
              </a:rPr>
              <a:t>Demande d’aide datée et signée par courrier postale et électronique </a:t>
            </a:r>
            <a:r>
              <a:rPr b="0" lang="fr-FR" sz="1800" spc="-1" strike="noStrike">
                <a:solidFill>
                  <a:srgbClr val="ffc000"/>
                </a:solidFill>
                <a:latin typeface="Calibri"/>
              </a:rPr>
              <a:t>poia</a:t>
            </a:r>
            <a:r>
              <a:rPr b="0" lang="fr-FR" sz="1800" spc="-1" strike="noStrike" u="sng">
                <a:solidFill>
                  <a:srgbClr val="f49100"/>
                </a:solidFill>
                <a:uFillTx/>
                <a:latin typeface="Calibri"/>
                <a:hlinkClick r:id="rId1"/>
              </a:rPr>
              <a:t>@regionpaca.fr</a:t>
            </a: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  <a:p>
            <a:pPr marL="138600" indent="-138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800" spc="-1" strike="noStrike">
                <a:solidFill>
                  <a:srgbClr val="30a9b1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30a9b1"/>
                </a:solidFill>
                <a:latin typeface="Calibri"/>
              </a:rPr>
              <a:t>puis sous forme dématérialisée via SYNERGIE ( à partir de 2016).</a:t>
            </a: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  <a:p>
            <a:pPr marL="138600" indent="-138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800" spc="-1" strike="noStrike">
                <a:solidFill>
                  <a:srgbClr val="30a9b1"/>
                </a:solidFill>
                <a:latin typeface="Wingdings"/>
                <a:ea typeface="Wingdings"/>
              </a:rPr>
              <a:t></a:t>
            </a:r>
            <a:r>
              <a:rPr b="0" lang="fr-FR" sz="1800" spc="-1" strike="noStrike">
                <a:solidFill>
                  <a:srgbClr val="30a9b1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30a9b1"/>
                </a:solidFill>
                <a:latin typeface="Calibri"/>
              </a:rPr>
              <a:t>Emission de l’attestation de dépôt envoyée au porteur de projet dans un délai maximum de 10 jours à compter de la date de réception du dossier.</a:t>
            </a: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  <a:p>
            <a:pPr marL="138600" indent="-138600">
              <a:lnSpc>
                <a:spcPct val="90000"/>
              </a:lnSpc>
              <a:spcBef>
                <a:spcPts val="751"/>
              </a:spcBef>
              <a:buClr>
                <a:srgbClr val="30a9b1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800" spc="-1" strike="noStrike">
                <a:solidFill>
                  <a:srgbClr val="30a9b1"/>
                </a:solidFill>
                <a:latin typeface="Calibri"/>
              </a:rPr>
              <a:t>Enregistrement dans le système d’information SYNERGIE et  transmission du dossier à l’unité FEDER </a:t>
            </a: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  <a:p>
            <a:pPr marL="138600" indent="-138600">
              <a:lnSpc>
                <a:spcPct val="90000"/>
              </a:lnSpc>
              <a:spcBef>
                <a:spcPts val="751"/>
              </a:spcBef>
              <a:buClr>
                <a:srgbClr val="30a9b1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800" spc="-1" strike="noStrike">
                <a:solidFill>
                  <a:srgbClr val="30a9b1"/>
                </a:solidFill>
                <a:latin typeface="Calibri"/>
              </a:rPr>
              <a:t>Non respect des délais de dépôt = refus du dossier</a:t>
            </a: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  <a:p>
            <a:pPr marL="138600" indent="-138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800" spc="-1" strike="noStrike">
                <a:solidFill>
                  <a:srgbClr val="30a9b1"/>
                </a:solidFill>
                <a:latin typeface="Calibri"/>
              </a:rPr>
              <a:t>                          </a:t>
            </a:r>
            <a:r>
              <a:rPr b="0" lang="fr-FR" sz="1800" spc="-1" strike="noStrike">
                <a:solidFill>
                  <a:srgbClr val="30a9b1"/>
                </a:solidFill>
                <a:latin typeface="Calibri"/>
              </a:rPr>
              <a:t>Date de dépôt de la demande conditionne l’éligibilité temporelle de l’opération  ( opération non achevée au moment du dépôt ou règle d’incitativité des aides d’Etat).</a:t>
            </a: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</p:txBody>
      </p:sp>
      <p:pic>
        <p:nvPicPr>
          <p:cNvPr id="177" name="Image 4" descr=""/>
          <p:cNvPicPr/>
          <p:nvPr/>
        </p:nvPicPr>
        <p:blipFill>
          <a:blip r:embed="rId2"/>
          <a:stretch/>
        </p:blipFill>
        <p:spPr>
          <a:xfrm>
            <a:off x="696960" y="5373720"/>
            <a:ext cx="797040" cy="492120"/>
          </a:xfrm>
          <a:prstGeom prst="rect">
            <a:avLst/>
          </a:prstGeom>
          <a:ln w="0">
            <a:noFill/>
          </a:ln>
        </p:spPr>
      </p:pic>
      <p:pic>
        <p:nvPicPr>
          <p:cNvPr id="178" name="Image 5" descr=""/>
          <p:cNvPicPr/>
          <p:nvPr/>
        </p:nvPicPr>
        <p:blipFill>
          <a:blip r:embed="rId3"/>
          <a:srcRect l="-16540" t="0" r="-16540" b="0"/>
          <a:stretch/>
        </p:blipFill>
        <p:spPr>
          <a:xfrm>
            <a:off x="34920" y="0"/>
            <a:ext cx="367344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1131840"/>
            <a:ext cx="7886880" cy="3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2400" spc="-1" strike="noStrike">
                <a:solidFill>
                  <a:srgbClr val="30a9b1"/>
                </a:solidFill>
                <a:latin typeface="Calibri Light"/>
              </a:rPr>
              <a:t>Procédure d’instruction 2/4</a:t>
            </a:r>
            <a:endParaRPr b="0" lang="en-US" sz="2400" spc="-1" strike="noStrike">
              <a:solidFill>
                <a:srgbClr val="30a9b1"/>
              </a:solidFill>
              <a:latin typeface="Calibri Light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33240" y="1628640"/>
            <a:ext cx="7886880" cy="37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400" spc="-1" strike="noStrike">
                <a:solidFill>
                  <a:srgbClr val="30a9b1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30a9b1"/>
                </a:solidFill>
                <a:latin typeface="Calibri"/>
              </a:rPr>
              <a:t>2 – Vérification de la complétude administrative </a:t>
            </a:r>
            <a:r>
              <a:rPr b="0" lang="fr-FR" sz="2000" spc="-1" strike="noStrike">
                <a:solidFill>
                  <a:srgbClr val="30a9b1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2000" spc="-1" strike="noStrike">
                <a:solidFill>
                  <a:srgbClr val="30a9b1"/>
                </a:solidFill>
                <a:latin typeface="Calibri"/>
              </a:rPr>
              <a:t>L’unité FEDER ou FSE vérifie la complétude administrative du dossier de demande en lien avec la liste des pièces obligatoires à fournir annexée au dossier type de demande d’aide. Vérifications consignées dans une grille de complétude datée et signée. </a:t>
            </a: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2000" spc="-1" strike="noStrike">
                <a:solidFill>
                  <a:srgbClr val="30a9b1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30a9b1"/>
                </a:solidFill>
                <a:latin typeface="Calibri"/>
              </a:rPr>
              <a:t>Tout dossier incomplet est considéré comme irrecevable,</a:t>
            </a: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2000" spc="-1" strike="noStrike">
                <a:solidFill>
                  <a:srgbClr val="30a9b1"/>
                </a:solidFill>
                <a:latin typeface="Calibri"/>
              </a:rPr>
              <a:t>              </a:t>
            </a: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2000" spc="-1" strike="noStrike">
                <a:solidFill>
                  <a:srgbClr val="30a9b1"/>
                </a:solidFill>
                <a:latin typeface="Calibri"/>
              </a:rPr>
              <a:t>Après analyse, le service instructeur transmet soit une attestation de complétude précisant le nom de la personne en charge du dossier, soit un courrier d’irrecevabilité spécifiant le motif d’irrecevabilité .</a:t>
            </a: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2000" spc="-1" strike="noStrike">
                <a:solidFill>
                  <a:srgbClr val="30a9b1"/>
                </a:solidFill>
                <a:latin typeface="Calibri"/>
              </a:rPr>
              <a:t>L’analyse de la complétude se fait dans un délai maximum de 30 jours à compter de la date de réception du dossier</a:t>
            </a:r>
            <a:r>
              <a:rPr b="0" lang="fr-FR" sz="2000" spc="-1" strike="noStrike">
                <a:solidFill>
                  <a:srgbClr val="30a9b1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</p:txBody>
      </p:sp>
      <p:pic>
        <p:nvPicPr>
          <p:cNvPr id="181" name="Image 3" descr=""/>
          <p:cNvPicPr/>
          <p:nvPr/>
        </p:nvPicPr>
        <p:blipFill>
          <a:blip r:embed="rId1"/>
          <a:stretch/>
        </p:blipFill>
        <p:spPr>
          <a:xfrm>
            <a:off x="631800" y="3862440"/>
            <a:ext cx="627120" cy="430200"/>
          </a:xfrm>
          <a:prstGeom prst="rect">
            <a:avLst/>
          </a:prstGeom>
          <a:ln w="0">
            <a:noFill/>
          </a:ln>
        </p:spPr>
      </p:pic>
      <p:pic>
        <p:nvPicPr>
          <p:cNvPr id="182" name="Image 5" descr=""/>
          <p:cNvPicPr/>
          <p:nvPr/>
        </p:nvPicPr>
        <p:blipFill>
          <a:blip r:embed="rId2"/>
          <a:srcRect l="-11320" t="0" r="-11320" b="0"/>
          <a:stretch/>
        </p:blipFill>
        <p:spPr>
          <a:xfrm>
            <a:off x="34920" y="0"/>
            <a:ext cx="33847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18920" y="981000"/>
            <a:ext cx="6265800" cy="28728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br>
              <a:rPr sz="1900"/>
            </a:br>
            <a:r>
              <a:rPr b="1" lang="fr-FR" sz="1900" spc="-1" strike="noStrike">
                <a:solidFill>
                  <a:srgbClr val="30a9b2"/>
                </a:solidFill>
                <a:latin typeface="Calibri"/>
              </a:rPr>
              <a:t>POIA 2014-2020:  La stratégie  inter régionale</a:t>
            </a:r>
            <a:br>
              <a:rPr sz="1900"/>
            </a:br>
            <a:endParaRPr b="0" lang="en-US" sz="1900" spc="-1" strike="noStrike">
              <a:solidFill>
                <a:srgbClr val="30a9b1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39640" y="1412640"/>
            <a:ext cx="7848720" cy="410364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 fontScale="99000"/>
          </a:bodyPr>
          <a:p>
            <a:pPr lvl="1" marL="3394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AXE 1: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Protéger et valoriser les Ressources Alpines pour un développement durable des territoires de montagne </a:t>
            </a: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 lvl="1" marL="3394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fr-FR" sz="16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fr-FR" sz="1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fr-FR" sz="1600" spc="-1" strike="noStrike">
                <a:solidFill>
                  <a:srgbClr val="0070c0"/>
                </a:solidFill>
                <a:latin typeface="Calibri"/>
              </a:rPr>
              <a:t>Accroître la découverte estivale du massif par la valorisation du patrimoine </a:t>
            </a:r>
            <a:r>
              <a:rPr b="1" lang="fr-FR" sz="16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70c0"/>
                </a:solidFill>
                <a:latin typeface="Calibri"/>
              </a:rPr>
              <a:t>naturel et </a:t>
            </a:r>
            <a:r>
              <a:rPr b="1" lang="fr-FR" sz="16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70c0"/>
                </a:solidFill>
                <a:latin typeface="Calibri"/>
              </a:rPr>
              <a:t>culturel  ( PI6c)</a:t>
            </a: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 lvl="1" marL="3394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Diversification des activités touristiques : tourisme d’été et en intersaison </a:t>
            </a: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 lvl="1" marL="3394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Consolidation des espaces de moyenne montagne</a:t>
            </a: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 lvl="1" marL="3394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fr-FR" sz="1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fr-FR" sz="1600" spc="-1" strike="noStrike">
                <a:solidFill>
                  <a:srgbClr val="0070c0"/>
                </a:solidFill>
                <a:latin typeface="Calibri"/>
              </a:rPr>
              <a:t>Protéger la biodiversité et les continuités écologiques alpines ( PI6d)</a:t>
            </a: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 lvl="1" marL="3394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Maintien des espèces / Protection des espaces et des continuités écologiques</a:t>
            </a: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 lvl="1" marL="3394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 lvl="1" marL="3394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AXE 2: Structurer et consolider la filière alpine de la transformation du bois pour la construction  </a:t>
            </a: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 lvl="1" marL="3394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0" lang="fr-FR" sz="1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fr-FR" sz="1600" spc="-1" strike="noStrike">
                <a:solidFill>
                  <a:srgbClr val="0070c0"/>
                </a:solidFill>
                <a:latin typeface="Calibri"/>
              </a:rPr>
              <a:t>Accroître l’offre certifiée du bois d’œuvre alpin transformé localement ( PI3d)</a:t>
            </a: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 lvl="1" marL="3394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 lvl="1" marL="3394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AXE 3: Développer la résilience des territoires et des populations face aux risques naturels</a:t>
            </a: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 lvl="1" marL="3394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0" lang="fr-FR" sz="1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fr-FR" sz="1600" spc="-1" strike="noStrike">
                <a:solidFill>
                  <a:srgbClr val="0070c0"/>
                </a:solidFill>
                <a:latin typeface="Calibri"/>
              </a:rPr>
              <a:t>Etendre et améliorer la gestion intégrée des risques naturels sur le massif (PI5b</a:t>
            </a:r>
            <a:r>
              <a:rPr b="1" lang="fr-FR" sz="1300" spc="-1" strike="noStrike">
                <a:solidFill>
                  <a:srgbClr val="0070c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30a9b1"/>
              </a:solidFill>
              <a:latin typeface="Calibri"/>
            </a:endParaRPr>
          </a:p>
          <a:p>
            <a:pPr marL="169560" indent="-16956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0a9b1"/>
              </a:solidFill>
              <a:latin typeface="Calibri"/>
            </a:endParaRPr>
          </a:p>
          <a:p>
            <a:pPr marL="169560" indent="-16956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0a9b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1344600"/>
            <a:ext cx="788688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2400" spc="-1" strike="noStrike">
                <a:solidFill>
                  <a:srgbClr val="30a9b1"/>
                </a:solidFill>
                <a:latin typeface="Calibri Light"/>
              </a:rPr>
              <a:t>Procédure d’instruction 3/4</a:t>
            </a:r>
            <a:endParaRPr b="0" lang="en-US" sz="2400" spc="-1" strike="noStrike">
              <a:solidFill>
                <a:srgbClr val="30a9b1"/>
              </a:solidFill>
              <a:latin typeface="Calibri Light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28560" y="1844640"/>
            <a:ext cx="7886880" cy="37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2000" spc="-1" strike="noStrike">
                <a:solidFill>
                  <a:srgbClr val="30a9b1"/>
                </a:solidFill>
                <a:latin typeface="Calibri"/>
              </a:rPr>
              <a:t>3</a:t>
            </a:r>
            <a:r>
              <a:rPr b="0" lang="fr-FR" sz="2000" spc="-1" strike="noStrike">
                <a:solidFill>
                  <a:srgbClr val="30a9b1"/>
                </a:solidFill>
                <a:latin typeface="Calibri"/>
              </a:rPr>
              <a:t>- </a:t>
            </a:r>
            <a:r>
              <a:rPr b="1" lang="fr-FR" sz="2000" spc="-1" strike="noStrike">
                <a:solidFill>
                  <a:srgbClr val="30a9b1"/>
                </a:solidFill>
                <a:latin typeface="Calibri"/>
              </a:rPr>
              <a:t>Instruction du dossier :</a:t>
            </a: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2000" spc="-1" strike="noStrike">
                <a:solidFill>
                  <a:srgbClr val="30a9b1"/>
                </a:solidFill>
                <a:latin typeface="Calibri"/>
              </a:rPr>
              <a:t>Le chargé de mission thématique en collaboration avec un instructeur –gestionnaire assure l’instruction du dossier en vérifiant le respect :</a:t>
            </a: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2000" spc="-1" strike="noStrike" u="sng">
                <a:solidFill>
                  <a:srgbClr val="30a9b1"/>
                </a:solidFill>
                <a:uFillTx/>
                <a:latin typeface="Calibri"/>
              </a:rPr>
              <a:t>Des critères d’éligiblité </a:t>
            </a:r>
            <a:r>
              <a:rPr b="0" lang="fr-FR" sz="2000" spc="-1" strike="noStrike">
                <a:solidFill>
                  <a:srgbClr val="30a9b1"/>
                </a:solidFill>
                <a:latin typeface="Calibri"/>
              </a:rPr>
              <a:t>: éligibilité temporelle, incitativité, éligibilité des dépenses présentées, régime d’aide d’Etat, respect de la procédure d’achat.</a:t>
            </a: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2000" spc="-1" strike="noStrike" u="sng">
                <a:solidFill>
                  <a:srgbClr val="30a9b1"/>
                </a:solidFill>
                <a:uFillTx/>
                <a:latin typeface="Calibri"/>
              </a:rPr>
              <a:t>Des critères de sélection </a:t>
            </a:r>
            <a:r>
              <a:rPr b="0" lang="fr-FR" sz="2000" spc="-1" strike="noStrike">
                <a:solidFill>
                  <a:srgbClr val="30a9b1"/>
                </a:solidFill>
                <a:latin typeface="Calibri"/>
              </a:rPr>
              <a:t>: évaluation selon les critères de sélection spécifiques à l’Appel A Proposition ( AAP).</a:t>
            </a: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2000" spc="-1" strike="noStrike">
                <a:solidFill>
                  <a:srgbClr val="30a9b1"/>
                </a:solidFill>
                <a:latin typeface="Calibri"/>
              </a:rPr>
              <a:t>Au moment de l’instruction, le service régional sera sollicité afin de formuler un avis technique portant  sur :</a:t>
            </a: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2000" spc="-1" strike="noStrike">
                <a:solidFill>
                  <a:srgbClr val="30a9b1"/>
                </a:solidFill>
                <a:latin typeface="Calibri"/>
              </a:rPr>
              <a:t>certains critères d’éligibilité</a:t>
            </a: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2000" spc="-1" strike="noStrike">
                <a:solidFill>
                  <a:srgbClr val="30a9b1"/>
                </a:solidFill>
                <a:latin typeface="Calibri"/>
              </a:rPr>
              <a:t>certains critères de contribution à la stratégie</a:t>
            </a: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2000" spc="-1" strike="noStrike">
                <a:solidFill>
                  <a:srgbClr val="30a9b1"/>
                </a:solidFill>
                <a:latin typeface="Calibri"/>
              </a:rPr>
              <a:t>les critères relatifs à la qualité du projet</a:t>
            </a: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2000" spc="-1" strike="noStrike">
                <a:solidFill>
                  <a:srgbClr val="30a9b1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</p:txBody>
      </p:sp>
      <p:pic>
        <p:nvPicPr>
          <p:cNvPr id="185" name="Image 4" descr=""/>
          <p:cNvPicPr/>
          <p:nvPr/>
        </p:nvPicPr>
        <p:blipFill>
          <a:blip r:embed="rId1"/>
          <a:srcRect l="-5653" t="0" r="-5653" b="0"/>
          <a:stretch/>
        </p:blipFill>
        <p:spPr>
          <a:xfrm>
            <a:off x="34920" y="0"/>
            <a:ext cx="360036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1344600"/>
            <a:ext cx="788688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2400" spc="-1" strike="noStrike">
                <a:solidFill>
                  <a:srgbClr val="30a9b1"/>
                </a:solidFill>
                <a:latin typeface="Calibri Light"/>
              </a:rPr>
              <a:t>Procédure d’instruction 4/4</a:t>
            </a:r>
            <a:endParaRPr b="0" lang="en-US" sz="2400" spc="-1" strike="noStrike">
              <a:solidFill>
                <a:srgbClr val="30a9b1"/>
              </a:solidFill>
              <a:latin typeface="Calibri Light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28560" y="1844640"/>
            <a:ext cx="7886880" cy="37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2000" spc="-1" strike="noStrike">
                <a:solidFill>
                  <a:srgbClr val="30a9b1"/>
                </a:solidFill>
                <a:latin typeface="Calibri"/>
              </a:rPr>
              <a:t>4 – Comité technique et comité régional de programmation</a:t>
            </a: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826920" y="2492280"/>
            <a:ext cx="7848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0a9b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0a9b1"/>
                </a:solidFill>
                <a:latin typeface="Calibri"/>
              </a:rPr>
              <a:t>Production par l’unité FEDER de la fiche « Synergie avant programmation » au </a:t>
            </a:r>
            <a:r>
              <a:rPr b="1" lang="fr-FR" sz="1800" spc="-1" strike="noStrike">
                <a:solidFill>
                  <a:srgbClr val="30a9b1"/>
                </a:solidFill>
                <a:latin typeface="Calibri"/>
              </a:rPr>
              <a:t>Comité technique régional</a:t>
            </a:r>
            <a:r>
              <a:rPr b="0" lang="fr-FR" sz="1800" spc="-1" strike="noStrike">
                <a:solidFill>
                  <a:srgbClr val="30a9b1"/>
                </a:solidFill>
                <a:latin typeface="Calibri"/>
              </a:rPr>
              <a:t> comportant les avis argumentés.</a:t>
            </a: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  <a:p>
            <a:pPr>
              <a:buClr>
                <a:srgbClr val="30a9b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0a9b1"/>
                </a:solidFill>
                <a:latin typeface="Calibri"/>
              </a:rPr>
              <a:t>Inscription des dossiers à l’ordre du jour du </a:t>
            </a:r>
            <a:r>
              <a:rPr b="1" lang="fr-FR" sz="1800" spc="-1" strike="noStrike">
                <a:solidFill>
                  <a:srgbClr val="30a9b1"/>
                </a:solidFill>
                <a:latin typeface="Calibri"/>
              </a:rPr>
              <a:t>Comité Régional de Programmation </a:t>
            </a: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0a9b1"/>
                </a:solidFill>
                <a:latin typeface="Calibri"/>
              </a:rPr>
              <a:t>( dossiers avec avis favorable/ défavorable/ajournement). Publication de la liste des dossiers et des montants de fonds UE programmés validés par le CRP.</a:t>
            </a: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  <a:p>
            <a:pPr>
              <a:buClr>
                <a:srgbClr val="30a9b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  <a:p>
            <a:pPr>
              <a:buClr>
                <a:srgbClr val="30a9b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0a9b1"/>
                </a:solidFill>
                <a:latin typeface="Calibri"/>
              </a:rPr>
              <a:t>Etablissement de la </a:t>
            </a:r>
            <a:r>
              <a:rPr b="0" lang="fr-FR" sz="1800" spc="-1" strike="noStrike" u="sng">
                <a:solidFill>
                  <a:srgbClr val="30a9b1"/>
                </a:solidFill>
                <a:uFillTx/>
                <a:latin typeface="Calibri"/>
              </a:rPr>
              <a:t>convention d’attribution de financement FEDER </a:t>
            </a:r>
            <a:r>
              <a:rPr b="0" lang="fr-FR" sz="1800" spc="-1" strike="noStrike">
                <a:solidFill>
                  <a:srgbClr val="30a9b1"/>
                </a:solidFill>
                <a:latin typeface="Calibri"/>
              </a:rPr>
              <a:t>à la signature du Président de région.</a:t>
            </a: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  <a:p>
            <a:pPr>
              <a:buClr>
                <a:srgbClr val="30a9b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</p:txBody>
      </p:sp>
      <p:pic>
        <p:nvPicPr>
          <p:cNvPr id="189" name="Image 5" descr=""/>
          <p:cNvPicPr/>
          <p:nvPr/>
        </p:nvPicPr>
        <p:blipFill>
          <a:blip r:embed="rId1"/>
          <a:srcRect l="0" t="-476" r="0" b="-476"/>
          <a:stretch/>
        </p:blipFill>
        <p:spPr>
          <a:xfrm>
            <a:off x="34920" y="0"/>
            <a:ext cx="324180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2100" spc="-1" strike="noStrike">
                <a:solidFill>
                  <a:srgbClr val="083763"/>
                </a:solidFill>
                <a:latin typeface="Calibri"/>
              </a:rPr>
              <a:t>M. WOLF</a:t>
            </a: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2100" spc="-1" strike="noStrike">
                <a:solidFill>
                  <a:srgbClr val="083763"/>
                </a:solidFill>
                <a:latin typeface="Calibri"/>
              </a:rPr>
              <a:t>Représentant de la Commission européenne – DG REGIO</a:t>
            </a: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459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Calibri Light"/>
              </a:rPr>
              <a:t> </a:t>
            </a:r>
            <a:r>
              <a:rPr b="1" lang="fr-FR" sz="2000" spc="-1" strike="noStrike">
                <a:solidFill>
                  <a:srgbClr val="002060"/>
                </a:solidFill>
                <a:latin typeface="Calibri Light"/>
              </a:rPr>
              <a:t>POIA             68 M€   dont UE: 34 M€</a:t>
            </a:r>
            <a:endParaRPr b="0" lang="en-US" sz="2000" spc="-1" strike="noStrike">
              <a:solidFill>
                <a:srgbClr val="30a9b1"/>
              </a:solidFill>
              <a:latin typeface="Calibri Light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50920" y="1197000"/>
          <a:ext cx="8713800" cy="4664160"/>
        </p:xfrm>
        <a:graphic>
          <a:graphicData uri="http://schemas.openxmlformats.org/drawingml/2006/table">
            <a:tbl>
              <a:tblPr/>
              <a:tblGrid>
                <a:gridCol w="5184720"/>
                <a:gridCol w="1944720"/>
                <a:gridCol w="1584360"/>
              </a:tblGrid>
              <a:tr h="51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ût Total  </a:t>
                      </a: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dont FEDER)</a:t>
                      </a:r>
                      <a:endParaRPr b="0" lang="en-US" sz="12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70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fr-FR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Axe 1:  Protéger et valoriser les Ressources Alpines pour un développement durable des territoires de montagne:</a:t>
                      </a:r>
                      <a:endParaRPr b="0" lang="en-US" sz="18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fr-FR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- </a:t>
                      </a:r>
                      <a:r>
                        <a:rPr b="1" lang="fr-FR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Patrimoine naturel et culturel (OS1-  PI6c)</a:t>
                      </a:r>
                      <a:endParaRPr b="0" lang="en-US" sz="16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fr-FR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- Biodiversité continuités écologiques (OS2- PI6d)</a:t>
                      </a:r>
                      <a:endParaRPr b="0" lang="en-US" sz="16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6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fr-FR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43.62 M€  </a:t>
                      </a:r>
                      <a:endParaRPr b="0" lang="en-US" sz="18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fr-FR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( dont 21.81M€ FEDER )</a:t>
                      </a:r>
                      <a:endParaRPr b="0" lang="en-US" sz="18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fr-FR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64%</a:t>
                      </a:r>
                      <a:endParaRPr b="0" lang="en-US" sz="18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 </a:t>
                      </a: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PI6c= 18 M€</a:t>
                      </a:r>
                      <a:endParaRPr b="0" lang="en-US" sz="14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PI6d = 3,81 M€</a:t>
                      </a:r>
                      <a:endParaRPr b="0" lang="en-US" sz="14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5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fr-FR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Axe 2:   Structurer et consolider la filière alpine de la transformation du bois pour la construction</a:t>
                      </a:r>
                      <a:endParaRPr b="0" lang="en-US" sz="18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2 M€       </a:t>
                      </a:r>
                      <a:endParaRPr b="0" lang="en-US" sz="18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 </a:t>
                      </a:r>
                      <a:r>
                        <a:rPr b="0" lang="fr-FR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(dont 6 M€ Feder)</a:t>
                      </a:r>
                      <a:endParaRPr b="0" lang="en-US" sz="18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8%</a:t>
                      </a:r>
                      <a:endParaRPr b="0" lang="en-US" sz="18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OT3 / PI3d</a:t>
                      </a:r>
                      <a:endParaRPr b="0" lang="en-US" sz="14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fr-FR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Axe 3: Développer la résilience des territoires et des populations face aux risques naturels</a:t>
                      </a:r>
                      <a:endParaRPr b="0" lang="en-US" sz="18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 M€    </a:t>
                      </a:r>
                      <a:endParaRPr b="0" lang="en-US" sz="18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(dont 5 M€ Feder)</a:t>
                      </a:r>
                      <a:endParaRPr b="0" lang="en-US" sz="18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5%</a:t>
                      </a:r>
                      <a:endParaRPr b="0" lang="en-US" sz="18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OT5/ PI5b</a:t>
                      </a:r>
                      <a:endParaRPr b="0" lang="en-US" sz="14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7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fr-FR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Axe 4: Assistance Technique</a:t>
                      </a:r>
                      <a:endParaRPr b="0" lang="en-US" sz="18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.38 M€       </a:t>
                      </a:r>
                      <a:endParaRPr b="0" lang="en-US" sz="18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 </a:t>
                      </a:r>
                      <a:r>
                        <a:rPr b="0" lang="fr-FR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(dont 1,19 M€)</a:t>
                      </a:r>
                      <a:endParaRPr b="0" lang="en-US" sz="18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5%</a:t>
                      </a:r>
                      <a:endParaRPr b="0" lang="en-US" sz="14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OT5</a:t>
                      </a:r>
                      <a:endParaRPr b="0" lang="en-US" sz="11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sp>
        <p:nvSpPr>
          <p:cNvPr id="56" name="Espace réservé du numéro de diapositive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8ec3c8"/>
                </a:solidFill>
                <a:latin typeface="Calibri"/>
              </a:rPr>
              <a:t>Page </a:t>
            </a:r>
            <a:fld id="{6A9FFBDD-1CEE-45DA-A737-E5B06CABA3DD}" type="slidenum">
              <a:rPr b="0" lang="fr-FR" sz="900" spc="-1" strike="noStrike">
                <a:solidFill>
                  <a:srgbClr val="8ec3c8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30a9b1"/>
              </a:solidFill>
              <a:latin typeface="Calibri"/>
            </a:endParaRPr>
          </a:p>
        </p:txBody>
      </p:sp>
      <p:pic>
        <p:nvPicPr>
          <p:cNvPr id="57" name="Image 7" descr=""/>
          <p:cNvPicPr/>
          <p:nvPr/>
        </p:nvPicPr>
        <p:blipFill>
          <a:blip r:embed="rId1"/>
          <a:srcRect l="-9104" t="0" r="-9104" b="0"/>
          <a:stretch/>
        </p:blipFill>
        <p:spPr>
          <a:xfrm>
            <a:off x="34920" y="0"/>
            <a:ext cx="27367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55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2000" spc="-1" strike="noStrike">
                <a:solidFill>
                  <a:srgbClr val="30a9b1"/>
                </a:solidFill>
                <a:latin typeface="Calibri"/>
              </a:rPr>
              <a:t>Un pilotage par les </a:t>
            </a:r>
            <a:r>
              <a:rPr b="1" lang="fr-FR" sz="2400" spc="-1" strike="noStrike">
                <a:solidFill>
                  <a:srgbClr val="30a9b1"/>
                </a:solidFill>
                <a:latin typeface="Calibri"/>
              </a:rPr>
              <a:t>résultats</a:t>
            </a:r>
            <a:r>
              <a:rPr b="1" lang="fr-FR" sz="2000" spc="-1" strike="noStrike">
                <a:solidFill>
                  <a:srgbClr val="30a9b1"/>
                </a:solidFill>
                <a:latin typeface="Calibri"/>
              </a:rPr>
              <a:t> , et la </a:t>
            </a:r>
            <a:r>
              <a:rPr b="1" lang="fr-FR" sz="2400" spc="-1" strike="noStrike">
                <a:solidFill>
                  <a:srgbClr val="30a9b1"/>
                </a:solidFill>
                <a:latin typeface="Calibri"/>
              </a:rPr>
              <a:t>performance</a:t>
            </a:r>
            <a:endParaRPr b="0" lang="en-US" sz="2400" spc="-1" strike="noStrike">
              <a:solidFill>
                <a:srgbClr val="30a9b1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36680" y="1350720"/>
            <a:ext cx="4039920" cy="63972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fr-FR" sz="1800" spc="-1" strike="noStrike">
                <a:solidFill>
                  <a:srgbClr val="7f7f7f"/>
                </a:solidFill>
                <a:latin typeface="Calibri"/>
              </a:rPr>
              <a:t>Architecture</a:t>
            </a: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6680" y="1999800"/>
            <a:ext cx="4039920" cy="434988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3 Axes Prioritaires </a:t>
            </a: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4 « Objectifs spécifiques » </a:t>
            </a: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alorisation patrimoine naturel et    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ulturel</a:t>
            </a: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iodiversité</a:t>
            </a: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Filière alpine bois</a:t>
            </a: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Gestion des risques naturels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4 « Priorités d’Investissement »</a:t>
            </a: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Objectif Spécifique</a:t>
            </a: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ypes d’actions / Principes de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élection</a:t>
            </a: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 Plan de Financement </a:t>
            </a: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aux maximum UE = 50% du Coût Total </a:t>
            </a: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640" y="1346040"/>
            <a:ext cx="4041720" cy="640080"/>
          </a:xfrm>
          <a:prstGeom prst="rect">
            <a:avLst/>
          </a:prstGeom>
          <a:noFill/>
          <a:ln w="9360">
            <a:solidFill>
              <a:srgbClr val="a5e3e7"/>
            </a:solidFill>
            <a:miter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fr-FR" sz="1800" spc="-1" strike="noStrike">
                <a:solidFill>
                  <a:srgbClr val="7f7f7f"/>
                </a:solidFill>
                <a:latin typeface="Calibri"/>
              </a:rPr>
              <a:t>  </a:t>
            </a:r>
            <a:r>
              <a:rPr b="1" i="1" lang="fr-FR" sz="1800" spc="-1" strike="noStrike">
                <a:solidFill>
                  <a:srgbClr val="7f7f7f"/>
                </a:solidFill>
                <a:latin typeface="Calibri"/>
              </a:rPr>
              <a:t>Performance</a:t>
            </a: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9000" y="1999800"/>
            <a:ext cx="4032360" cy="4319640"/>
          </a:xfrm>
          <a:prstGeom prst="rect">
            <a:avLst/>
          </a:prstGeom>
          <a:noFill/>
          <a:ln w="9360">
            <a:solidFill>
              <a:srgbClr val="a5e3e7"/>
            </a:solidFill>
            <a:miter/>
          </a:ln>
        </p:spPr>
        <p:txBody>
          <a:bodyPr anchor="t">
            <a:normAutofit fontScale="93000"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1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59aaf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1400" spc="-1" strike="noStrike">
                <a:solidFill>
                  <a:srgbClr val="59aaf2"/>
                </a:solidFill>
                <a:latin typeface="Calibri"/>
              </a:rPr>
              <a:t>Indicateurs de RESULTAT</a:t>
            </a:r>
            <a:endParaRPr b="0" lang="en-US" sz="14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1100" spc="-1" strike="noStrike">
                <a:solidFill>
                  <a:srgbClr val="78d4db"/>
                </a:solidFill>
                <a:latin typeface="Calibri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Mesure</a:t>
            </a: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 le changement attendu: </a:t>
            </a:r>
            <a:endParaRPr b="0" lang="en-US" sz="15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Nb de nuitées touristiques estivales</a:t>
            </a:r>
            <a:endParaRPr b="0" lang="en-US" sz="15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Taux d’espèces naturelles d’intérêt communautaire menacées sur les Alpes</a:t>
            </a:r>
            <a:endParaRPr b="0" lang="en-US" sz="15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Nb d’entreprises certifiées bois des alpes</a:t>
            </a:r>
            <a:endParaRPr b="0" lang="en-US" sz="15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Part de population concernée par une démarche de gestion des risques naturels</a:t>
            </a:r>
            <a:endParaRPr b="0" lang="en-US" sz="15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59aaf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1400" spc="-1" strike="noStrike">
                <a:solidFill>
                  <a:srgbClr val="59aaf2"/>
                </a:solidFill>
                <a:latin typeface="Calibri"/>
              </a:rPr>
              <a:t>Indicateurs de REALISATION</a:t>
            </a:r>
            <a:endParaRPr b="0" lang="en-US" sz="14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fr-FR" sz="1100" spc="-1" strike="noStrike">
                <a:solidFill>
                  <a:srgbClr val="30a9b1"/>
                </a:solidFill>
                <a:latin typeface="Calibri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Calibri"/>
              </a:rPr>
              <a:t>Nombre de plan d’actions soutenus</a:t>
            </a:r>
            <a:endParaRPr b="0" lang="en-US" sz="14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59aaf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1400" spc="-1" strike="noStrike">
                <a:solidFill>
                  <a:srgbClr val="59aaf2"/>
                </a:solidFill>
                <a:latin typeface="Calibri"/>
              </a:rPr>
              <a:t>Cadre de PERFORMANCE</a:t>
            </a:r>
            <a:r>
              <a:rPr b="0" lang="fr-FR" sz="1100" spc="-1" strike="noStrike">
                <a:solidFill>
                  <a:srgbClr val="30a9b1"/>
                </a:solidFill>
                <a:latin typeface="Calibri"/>
              </a:rPr>
              <a:t>	</a:t>
            </a:r>
            <a:r>
              <a:rPr b="0" lang="fr-FR" sz="1200" spc="-1" strike="noStrike">
                <a:solidFill>
                  <a:srgbClr val="30a9b1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Indicateurs </a:t>
            </a: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Financiers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 (certification)  et de </a:t>
            </a: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Réalisation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  - ECHEANCE 2018</a:t>
            </a:r>
            <a:endParaRPr b="0" lang="en-US" sz="14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30a9b1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fr-FR" sz="1200" spc="-1" strike="noStrike">
                <a:solidFill>
                  <a:srgbClr val="30a9b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63" name="Espace réservé du numéro de diapositive 6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A3DFF-3C2B-4146-B1AF-455AEB1D2E14}" type="slidenum">
              <a:rPr b="0" lang="fr-F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0a9b1"/>
              </a:solidFill>
              <a:latin typeface="Calibri"/>
            </a:endParaRPr>
          </a:p>
        </p:txBody>
      </p:sp>
      <p:cxnSp>
        <p:nvCxnSpPr>
          <p:cNvPr id="64" name="Connecteur droit avec flèche 16"/>
          <p:cNvCxnSpPr/>
          <p:nvPr/>
        </p:nvCxnSpPr>
        <p:spPr>
          <a:xfrm flipV="1">
            <a:off x="3607920" y="2877840"/>
            <a:ext cx="1081800" cy="1945440"/>
          </a:xfrm>
          <a:prstGeom prst="straightConnector1">
            <a:avLst/>
          </a:prstGeom>
          <a:ln w="648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65" name="Connecteur droit avec flèche 18"/>
          <p:cNvCxnSpPr/>
          <p:nvPr/>
        </p:nvCxnSpPr>
        <p:spPr>
          <a:xfrm flipV="1">
            <a:off x="3607920" y="4652640"/>
            <a:ext cx="1072440" cy="208800"/>
          </a:xfrm>
          <a:prstGeom prst="straightConnector1">
            <a:avLst/>
          </a:prstGeom>
          <a:ln w="648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66" name="Connecteur droit avec flèche 20"/>
          <p:cNvCxnSpPr/>
          <p:nvPr/>
        </p:nvCxnSpPr>
        <p:spPr>
          <a:xfrm>
            <a:off x="3607920" y="4870080"/>
            <a:ext cx="1081800" cy="359640"/>
          </a:xfrm>
          <a:prstGeom prst="straightConnector1">
            <a:avLst/>
          </a:prstGeom>
          <a:ln w="6480">
            <a:solidFill>
              <a:srgbClr val="0f6fc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66840" y="1341000"/>
            <a:ext cx="4016160" cy="35100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1800" spc="-1" strike="noStrike">
                <a:solidFill>
                  <a:srgbClr val="7f7f7f"/>
                </a:solidFill>
                <a:latin typeface="Calibri"/>
              </a:rPr>
              <a:t>Appels à Proposition</a:t>
            </a: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43080" y="1844640"/>
            <a:ext cx="4039920" cy="3951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Appel annuel, ouvert en continu, avec une sélection séquencée</a:t>
            </a:r>
            <a:endParaRPr b="0" lang="en-US" sz="22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Le budget dédié à l’appel</a:t>
            </a:r>
            <a:endParaRPr b="0" lang="en-US" sz="22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Le calendrier de sélection en Comité interrégional de Programmation (CRP) </a:t>
            </a:r>
            <a:endParaRPr b="0" lang="en-US" sz="22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Les critères d’éligibilité</a:t>
            </a:r>
            <a:endParaRPr b="0" lang="en-US" sz="22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Les critères de sélection approuvés par le Comité de suivi du 19 II 2014</a:t>
            </a:r>
            <a:endParaRPr b="0" lang="en-US" sz="22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30a9b1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44720" y="1341000"/>
            <a:ext cx="4040280" cy="35100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1800" spc="-1" strike="noStrike">
                <a:solidFill>
                  <a:srgbClr val="7f7f7f"/>
                </a:solidFill>
                <a:latin typeface="Calibri"/>
              </a:rPr>
              <a:t>Appels à projet</a:t>
            </a: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43280" y="1844640"/>
            <a:ext cx="4042080" cy="3951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Cette procédure est mise en œuvre lorsqu’il est nécessaire de cibler à un moment donné la programmation sur une partie seulement de « Priorité d’Investissement ». Il peut être conjoint, ou non.</a:t>
            </a:r>
            <a:endParaRPr b="0" lang="en-US" sz="19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Il définira notamment :</a:t>
            </a:r>
            <a:endParaRPr b="0" lang="en-US" sz="1900" spc="-1" strike="noStrike">
              <a:solidFill>
                <a:srgbClr val="30a9b1"/>
              </a:solidFill>
              <a:latin typeface="Calibri"/>
            </a:endParaRPr>
          </a:p>
          <a:p>
            <a:pPr lvl="2" marL="743040" indent="-34308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le budget  </a:t>
            </a:r>
            <a:endParaRPr b="0" lang="en-US" sz="1900" spc="-1" strike="noStrike">
              <a:solidFill>
                <a:srgbClr val="30a9b1"/>
              </a:solidFill>
              <a:latin typeface="Calibri"/>
            </a:endParaRPr>
          </a:p>
          <a:p>
            <a:pPr lvl="2" marL="743040" indent="-34308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les dates de début et de fin de dépôt des dossiers,</a:t>
            </a:r>
            <a:endParaRPr b="0" lang="en-US" sz="1900" spc="-1" strike="noStrike">
              <a:solidFill>
                <a:srgbClr val="30a9b1"/>
              </a:solidFill>
              <a:latin typeface="Calibri"/>
            </a:endParaRPr>
          </a:p>
          <a:p>
            <a:pPr lvl="2" marL="743040" indent="-34308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la date prévisionnelle d’examen des dossiers en CRP</a:t>
            </a:r>
            <a:endParaRPr b="0" lang="en-US" sz="1900" spc="-1" strike="noStrike">
              <a:solidFill>
                <a:srgbClr val="30a9b1"/>
              </a:solidFill>
              <a:latin typeface="Calibri"/>
            </a:endParaRPr>
          </a:p>
          <a:p>
            <a:pPr lvl="2" marL="743040" indent="-34308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les critères d’éligibilité et de sélection applicables</a:t>
            </a:r>
            <a:endParaRPr b="0" lang="en-US" sz="19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71" name="Espace réservé du numéro de diapositive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E0FD2-B2B1-4A92-B6AD-C168A0861020}" type="slidenum">
              <a:rPr b="0" lang="fr-F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72" name="Rectangle 1"/>
          <p:cNvSpPr/>
          <p:nvPr/>
        </p:nvSpPr>
        <p:spPr>
          <a:xfrm>
            <a:off x="900000" y="781200"/>
            <a:ext cx="778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0a9b1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30a9b1"/>
                </a:solidFill>
                <a:latin typeface="Calibri"/>
              </a:rPr>
              <a:t>Les méthodes de sélection</a:t>
            </a: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66840" y="1052280"/>
            <a:ext cx="401616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b">
            <a:normAutofit fontScale="89000"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Contribution du projet à la stratégie du POIA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Choix 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</a:rPr>
              <a:t>stratégiques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 du PO: Contribution à la valorisation durable des ressources alpines / Atteinte des résultats attendus ( indicateurs de résultat)</a:t>
            </a: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</a:rPr>
              <a:t>Priorités transversales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: Dév durable, égalité des chances et lutte contre les discriminations, égalité femmes hommes</a:t>
            </a: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43080" y="3573360"/>
            <a:ext cx="4039920" cy="237672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 fontScale="94000"/>
          </a:bodyPr>
          <a:p>
            <a:pPr lvl="1" marL="3222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Critères relatifs à la performance financière du POIA:</a:t>
            </a: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Définis directement à partir:</a:t>
            </a:r>
            <a:endParaRPr b="0" lang="en-US" sz="14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du cadre de performance:</a:t>
            </a:r>
            <a:endParaRPr b="0" lang="en-US" sz="1400" spc="-1" strike="noStrike">
              <a:solidFill>
                <a:srgbClr val="30a9b1"/>
              </a:solidFill>
              <a:latin typeface="Calibri"/>
            </a:endParaRPr>
          </a:p>
          <a:p>
            <a:pPr lvl="1" marL="3222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Contribution aux objectifs en matière de réalisations (indicateurs de réalisation)</a:t>
            </a:r>
            <a:endParaRPr b="0" lang="en-US" sz="1400" spc="-1" strike="noStrike">
              <a:solidFill>
                <a:srgbClr val="30a9b1"/>
              </a:solidFill>
              <a:latin typeface="Calibri"/>
            </a:endParaRPr>
          </a:p>
          <a:p>
            <a:pPr lvl="1" marL="3222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Contribution aux objectifs en matière de consommation des fonds</a:t>
            </a:r>
            <a:endParaRPr b="0" lang="en-US" sz="14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Du rapport coûts / résultats (sur la base de coûts de référence)</a:t>
            </a:r>
            <a:endParaRPr b="0" lang="en-US" sz="1400" spc="-1" strike="noStrike">
              <a:solidFill>
                <a:srgbClr val="30a9b1"/>
              </a:solidFill>
              <a:latin typeface="Calibri"/>
            </a:endParaRPr>
          </a:p>
          <a:p>
            <a:pPr lvl="1" marL="3222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  <a:p>
            <a:pPr lvl="1" marL="3222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44720" y="1052280"/>
            <a:ext cx="404028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b">
            <a:normAutofit fontScale="84000"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Critères relatifs à la qualité « technique » du projet:</a:t>
            </a: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Déclinaison des 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</a:rPr>
              <a:t>principes de sélection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figurant dans le programme pour chaque priorité, en fonction des spécificités des politiques publiques concernées </a:t>
            </a: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fr-FR" sz="1600" spc="-1" strike="noStrike">
                <a:solidFill>
                  <a:srgbClr val="7f7f7f"/>
                </a:solidFill>
                <a:latin typeface="Calibri"/>
              </a:rPr>
              <a:t>Exemple: priorité aux projets innovants, aux projets reproductibles, aux projets localisés sur les espaces valléens, etc…</a:t>
            </a: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43280" y="3573360"/>
            <a:ext cx="4042080" cy="237672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 fontScale="96000"/>
          </a:bodyPr>
          <a:p>
            <a:pPr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Critères relatifs aux exigences administratives et financières </a:t>
            </a: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Issus des exigences règlementaires en matière de gestion des fonds européens:</a:t>
            </a:r>
            <a:endParaRPr b="0" lang="en-US" sz="14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la capacité financière du porteur de projet</a:t>
            </a:r>
            <a:endParaRPr b="0" lang="en-US" sz="14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l’existence ou la mise en place d’une comptabilité analytique</a:t>
            </a:r>
            <a:endParaRPr b="0" lang="en-US" sz="14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les moyens humains et les outils dédiés à la gestion par le porteur</a:t>
            </a:r>
            <a:endParaRPr b="0" lang="en-US" sz="14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Calibri"/>
              </a:rPr>
              <a:t>Formations pour les porteurs de projet réalisées directement par les équipes de la Région.</a:t>
            </a:r>
            <a:endParaRPr b="0" lang="en-US" sz="14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77" name="Espace réservé du numéro de diapositive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09E62-8CD9-4523-85FE-8C90C844F880}" type="slidenum">
              <a:rPr b="0" lang="fr-F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78" name="Rectangle 1"/>
          <p:cNvSpPr/>
          <p:nvPr/>
        </p:nvSpPr>
        <p:spPr>
          <a:xfrm>
            <a:off x="900000" y="708120"/>
            <a:ext cx="778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0a9b1"/>
                </a:solidFill>
                <a:latin typeface="Calibri"/>
              </a:rPr>
              <a:t>Les CRITERES de sélection</a:t>
            </a: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6840" y="1341360"/>
            <a:ext cx="4040280" cy="4037040"/>
          </a:xfrm>
          <a:prstGeom prst="rect">
            <a:avLst/>
          </a:prstGeom>
          <a:noFill/>
          <a:ln w="9360">
            <a:solidFill>
              <a:srgbClr val="78d4db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1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1600" spc="-1" strike="noStrike">
                <a:solidFill>
                  <a:srgbClr val="0070c0"/>
                </a:solidFill>
                <a:latin typeface="Calibri"/>
              </a:rPr>
              <a:t>Patrimoine naturel et culturel</a:t>
            </a: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Accroître la découverte estivale du massif par la valorisation du patrimoine naturel et culturel (OS1) </a:t>
            </a: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Calibri"/>
              </a:rPr>
              <a:t>36 M€  dont 18 M€ FEDER ( PI6c)</a:t>
            </a: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alibri"/>
              </a:rPr>
              <a:t>Résultat visé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2023: </a:t>
            </a: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+5% Nombre de nuitées touristiques estivales (p/r 2012)</a:t>
            </a: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15328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Axe 1: </a:t>
            </a:r>
            <a:r>
              <a:rPr b="1" lang="fr-FR" sz="1600" spc="-1" strike="noStrike">
                <a:solidFill>
                  <a:srgbClr val="002060"/>
                </a:solidFill>
                <a:latin typeface="Calibri Light"/>
              </a:rPr>
              <a:t>Protéger et valoriser les Ressources Alpines pour un développement durable des territoires de montagne ( OS1)</a:t>
            </a:r>
            <a:endParaRPr b="0" lang="en-US" sz="1600" spc="-1" strike="noStrike">
              <a:solidFill>
                <a:srgbClr val="30a9b1"/>
              </a:solidFill>
              <a:latin typeface="Calibri Light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467240" y="1339920"/>
            <a:ext cx="4044960" cy="4037040"/>
          </a:xfrm>
          <a:prstGeom prst="rect">
            <a:avLst/>
          </a:prstGeom>
          <a:noFill/>
          <a:ln w="9360">
            <a:solidFill>
              <a:srgbClr val="78d4db"/>
            </a:solidFill>
            <a:miter/>
          </a:ln>
        </p:spPr>
        <p:txBody>
          <a:bodyPr anchor="t">
            <a:normAutofit/>
          </a:bodyPr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sur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Espaces valléens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:  Animation et ingénierie d’élaboration des plans d’actions sur les Espaces valléens  / Investissements en vue mise en valeur patrimoine naturel et culturel: aménagement de sites et d’infrastructures de découverte  / Action de valorisation et découverte des identités et savoir faire locaux</a:t>
            </a: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Echelle interrégionale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:  mise en réseau et mutualisation des stratégies et initiatives locales de valorisation des ressources naturelles et culturelles /   Sensibilisation /    découverte</a:t>
            </a: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 algn="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alibri"/>
              </a:rPr>
              <a:t>Réalisations visées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 algn="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Nb de plans d’actions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10</a:t>
            </a: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 algn="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Nb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d’infrastructures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de mise en valeur patrimoniale soutenues: 110</a:t>
            </a: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 algn="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/ Nb de campagne de promotion interrégionale: 18 </a:t>
            </a: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82" name="Espace réservé du numéro de diapositive 6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73EC2-0282-484C-8C07-A8872301C54C}" type="slidenum">
              <a:rPr b="0" lang="fr-F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83" name="Rectangle 13"/>
          <p:cNvSpPr/>
          <p:nvPr/>
        </p:nvSpPr>
        <p:spPr>
          <a:xfrm>
            <a:off x="457200" y="5421240"/>
            <a:ext cx="81532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  <a:ea typeface="Arial"/>
              </a:rPr>
              <a:t>Bénéficiaires cibles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Arial"/>
              </a:rPr>
              <a:t>Collectivités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Arial"/>
              </a:rPr>
              <a:t> et établissements publics, syndicats mixtes, associations, structures réseaux, entreprises propriétaires d’infrastructures de découverte patrimoniale</a:t>
            </a:r>
            <a:endParaRPr b="0" lang="en-US" sz="1400" spc="-1" strike="noStrike">
              <a:solidFill>
                <a:srgbClr val="30a9b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55480" y="44928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3300" spc="-1" strike="noStrike">
                <a:solidFill>
                  <a:srgbClr val="000000"/>
                </a:solidFill>
                <a:latin typeface="Calibri Light"/>
              </a:rPr>
              <a:t>Espaces Valléens.  </a:t>
            </a:r>
            <a:r>
              <a:rPr b="1" lang="fr-FR" sz="2000" spc="-1" strike="noStrike">
                <a:solidFill>
                  <a:srgbClr val="000000"/>
                </a:solidFill>
                <a:latin typeface="Calibri Light"/>
              </a:rPr>
              <a:t>Procédure en 2 temps</a:t>
            </a:r>
            <a:endParaRPr b="0" lang="en-US" sz="2000" spc="-1" strike="noStrike">
              <a:solidFill>
                <a:srgbClr val="30a9b1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95440" y="1093320"/>
            <a:ext cx="775800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1. Appel à Manifestation d’Intérêt «  Sélection des Espaces valléens 2014-2020»</a:t>
            </a: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92200" y="1917360"/>
            <a:ext cx="3619440" cy="38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65960" indent="-165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Démarche PACA / RA / Comité de massif</a:t>
            </a: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 marL="165960" indent="-165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Manifestation en vue obtenir la «  labellisation  Espace Valléen »</a:t>
            </a: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 marL="165960" indent="-165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Enjeux: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 marL="165960" indent="-165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Développer une Stratégie de diversification des activités valorisant les patrimoines naturels et culturels: une stratégie sur 6 ans déclinée en un plan d’action pour 3 ans</a:t>
            </a: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 marL="165960" indent="-165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Contribuer à l’émergence d’une offre innovante et diversifée de tourisme durable en montagne, à partir d’un territoire de projet. Cohérence physique, économique et sociale à une échelle territoriale large</a:t>
            </a: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 marL="165960" indent="-165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  <a:p>
            <a:pPr marL="165960" indent="-165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  <a:p>
            <a:pPr marL="165960" indent="-1659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29240" y="1917360"/>
            <a:ext cx="3765600" cy="38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Calendrier 2015</a:t>
            </a: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Janv: Courrier</a:t>
            </a: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Fev : Lancement AMI</a:t>
            </a: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4 Sept: Dépôt des stratégies des territoires candidats.</a:t>
            </a: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Courant Sept : Audition des candidats «  Espaces valléens »</a:t>
            </a: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Fin Sept: Comité de sélection</a:t>
            </a: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Fin Oct: dépôt des dossiers retravaillés</a:t>
            </a: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Mi nov: Réponse Comité de sélection ( sélection/ rejet)</a:t>
            </a: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Fin déc : transmission des plans d’actions finalisés ( </a:t>
            </a: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4T14:05:35Z</dcterms:created>
  <dc:creator>DUBOUCHAUD Frederic</dc:creator>
  <dc:description/>
  <dc:language>en-US</dc:language>
  <cp:lastModifiedBy>LOUSSERT Christine</cp:lastModifiedBy>
  <cp:lastPrinted>2015-02-18T09:46:01Z</cp:lastPrinted>
  <dcterms:modified xsi:type="dcterms:W3CDTF">2015-02-18T11:10:41Z</dcterms:modified>
  <cp:revision>131</cp:revision>
  <dc:subject/>
  <dc:title>Présentation PowerPoint</dc:title>
</cp:coreProperties>
</file>